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406-B509-40E6-85BC-F03971AD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2E3-3000-409A-B2C0-A19F2EBE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B30-960F-4EFB-8B89-564F6525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1A0-BF42-43A2-96C4-60E6A024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27A-7767-4EBD-95E6-800DECE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B73-ED01-4404-8FD4-BEC6C2F5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541-1D0A-4977-AF4C-66A9BEB8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3C6-E015-4953-A3BD-F373F7C2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47B-D260-45EA-AC4E-5CF3BE8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F1A-2E3E-4FCC-AE9B-E114DEB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EAD-18E5-4FDA-B14D-463E01B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303-7CAF-45E2-9A69-F09E4B2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78BB-A324-4233-80B6-43F5D37DF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faculty.washington.edu/kayee/pca/pca.pdf" TargetMode="External"/><Relationship Id="rId2" Type="http://schemas.openxmlformats.org/officeDocument/2006/relationships/hyperlink" Target="http://www.informatik.uni-mannheim.de/pi4/publications/library/Haenselmann2002a.pdf" TargetMode="External"/><Relationship Id="rId3" Type="http://schemas.openxmlformats.org/officeDocument/2006/relationships/hyperlink" Target="http://www.cs.otago.ac.nz/cosc453/student_tutorials/principal_components.pdf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IMAGE SEGMENTATION</a:t>
            </a:r>
            <a:br>
              <a:rPr sz="2800"/>
            </a:b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USING 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B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VASUDHA  ANUG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c" descr=""/>
          <p:cNvPicPr/>
          <p:nvPr/>
        </p:nvPicPr>
        <p:blipFill>
          <a:blip r:embed="rId1"/>
          <a:stretch/>
        </p:blipFill>
        <p:spPr>
          <a:xfrm>
            <a:off x="314280" y="1428840"/>
            <a:ext cx="851544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One way to think about PCA is that it generates a set of directions, or vectors in the data space. The first vector shows you the direction of greatest variation in the data set; the second vector shows the next direction of greatest variation, and so on. The amount of variation represented by each subsequent vector decreases monoton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BACKGROUND MATHEMAT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sub images are stored as stack one behind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relation among all the  pixels of the blocks are calculat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t is stored in covarianc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eigen vectors of the covariance matrix are foun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resulting matrix  T is already the transform that concentrates the energy of an average </a:t>
            </a:r>
            <a:r>
              <a:rPr b="0" i="1" lang="en-US" sz="3200" spc="-1" strike="noStrike">
                <a:solidFill>
                  <a:srgbClr val="000000"/>
                </a:solidFill>
                <a:latin typeface="Papyrus"/>
              </a:rPr>
              <a:t>n * n  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exture block in the best possible manner. Each texture block in the original image can now be transformed using that trans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Step 3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is matrix is given to a clustering algorithm such as k-means which gives a label to each block. The block is colored according the l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Step 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A new matrix is constructed with these  bl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-852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Improvis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exture Re-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nstead of using all the coefficients of the eigenvectors we use a different method to represent them in an easie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For each of these </a:t>
            </a:r>
            <a:r>
              <a:rPr b="0" i="1" lang="en-US" sz="3200" spc="-1" strike="noStrike">
                <a:solidFill>
                  <a:srgbClr val="000000"/>
                </a:solidFill>
                <a:latin typeface="Papyrus"/>
              </a:rPr>
              <a:t>n*n 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coefficients the average value and variance must now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igen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1814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An analysis of the statistical distribution of the coefficients reveals that following a Gaussian distribution all are scattered around a mean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For each of the coefficients a Gaussian distributed random number with its mean value and variance is genera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Using the inverse transform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pyru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 such a random vector can then be transformed back into the spatial do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which is segmented using PCA                                        image which is seg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 re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reen1" descr="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79" name="green1pca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0" name="green1gaus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green2" descr=""/>
          <p:cNvPicPr/>
          <p:nvPr/>
        </p:nvPicPr>
        <p:blipFill>
          <a:blip r:embed="rId1"/>
          <a:stretch/>
        </p:blipFill>
        <p:spPr>
          <a:xfrm>
            <a:off x="2438280" y="-228600"/>
            <a:ext cx="4953240" cy="3714840"/>
          </a:xfrm>
          <a:prstGeom prst="rect">
            <a:avLst/>
          </a:prstGeom>
          <a:ln w="0">
            <a:noFill/>
          </a:ln>
        </p:spPr>
      </p:pic>
      <p:pic>
        <p:nvPicPr>
          <p:cNvPr id="84" name="green2seg1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41320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pyrus"/>
              </a:rPr>
              <a:t>Image Se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o distinguish objects in an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) Edge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) Region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We are using region based seg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rojhelp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840120" cy="3646440"/>
          </a:xfrm>
          <a:prstGeom prst="rect">
            <a:avLst/>
          </a:prstGeom>
          <a:ln w="0">
            <a:noFill/>
          </a:ln>
        </p:spPr>
      </p:pic>
      <p:pic>
        <p:nvPicPr>
          <p:cNvPr id="86" name="projhelp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401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ext4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90" name="text4gaus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132440" cy="3098880"/>
          </a:xfrm>
          <a:prstGeom prst="rect">
            <a:avLst/>
          </a:prstGeom>
          <a:ln w="0">
            <a:noFill/>
          </a:ln>
        </p:spPr>
      </p:pic>
      <p:pic>
        <p:nvPicPr>
          <p:cNvPr id="91" name="text4org" descr=""/>
          <p:cNvPicPr/>
          <p:nvPr/>
        </p:nvPicPr>
        <p:blipFill>
          <a:blip r:embed="rId3"/>
          <a:stretch/>
        </p:blipFill>
        <p:spPr>
          <a:xfrm>
            <a:off x="2133720" y="533520"/>
            <a:ext cx="41320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arpca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132080" cy="3098520"/>
          </a:xfrm>
          <a:prstGeom prst="rect">
            <a:avLst/>
          </a:prstGeom>
          <a:ln w="0">
            <a:noFill/>
          </a:ln>
        </p:spPr>
      </p:pic>
      <p:pic>
        <p:nvPicPr>
          <p:cNvPr id="95" name="cargaus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802320" cy="2851200"/>
          </a:xfrm>
          <a:prstGeom prst="rect">
            <a:avLst/>
          </a:prstGeom>
          <a:ln w="0">
            <a:noFill/>
          </a:ln>
        </p:spPr>
      </p:pic>
      <p:pic>
        <p:nvPicPr>
          <p:cNvPr id="96" name="car" descr=""/>
          <p:cNvPicPr/>
          <p:nvPr/>
        </p:nvPicPr>
        <p:blipFill>
          <a:blip r:embed="rId3"/>
          <a:stretch/>
        </p:blipFill>
        <p:spPr>
          <a:xfrm>
            <a:off x="3276720" y="1066680"/>
            <a:ext cx="28191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arpsamecolor" descr=""/>
          <p:cNvPicPr/>
          <p:nvPr/>
        </p:nvPicPr>
        <p:blipFill>
          <a:blip r:embed="rId1"/>
          <a:stretch/>
        </p:blipFill>
        <p:spPr>
          <a:xfrm>
            <a:off x="0" y="15238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00" name="carptext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ar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32440" cy="3098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vartext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iffgaus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4543560" cy="3408120"/>
          </a:xfrm>
          <a:prstGeom prst="rect">
            <a:avLst/>
          </a:prstGeom>
          <a:ln w="0">
            <a:noFill/>
          </a:ln>
        </p:spPr>
      </p:pic>
      <p:pic>
        <p:nvPicPr>
          <p:cNvPr id="106" name="diff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&amp;y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05320" cy="3303720"/>
          </a:xfrm>
          <a:prstGeom prst="rect">
            <a:avLst/>
          </a:prstGeom>
          <a:ln w="0">
            <a:noFill/>
          </a:ln>
        </p:spPr>
      </p:pic>
      <p:pic>
        <p:nvPicPr>
          <p:cNvPr id="108" name="p&amp;yseg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sdf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greenerypca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4826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aaswq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826160" cy="3619440"/>
          </a:xfrm>
          <a:prstGeom prst="rect">
            <a:avLst/>
          </a:prstGeom>
          <a:ln w="0">
            <a:noFill/>
          </a:ln>
        </p:spPr>
      </p:pic>
      <p:pic>
        <p:nvPicPr>
          <p:cNvPr id="112" name="aaa" descr=""/>
          <p:cNvPicPr/>
          <p:nvPr/>
        </p:nvPicPr>
        <p:blipFill>
          <a:blip r:embed="rId2"/>
          <a:stretch/>
        </p:blipFill>
        <p:spPr>
          <a:xfrm>
            <a:off x="-152280" y="16002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PCA fails sometimes because of the texture similarity , but difference in colo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pyrus"/>
              </a:rPr>
              <a:t>Technique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Papyrus"/>
              </a:rPr>
              <a:t>Four step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Papyrus"/>
              </a:rPr>
              <a:t>image is split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 into 3x3 block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)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Papyrus"/>
              </a:rPr>
              <a:t>PCA</a:t>
            </a: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s applied on the set of the bl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)   The block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Papyrus"/>
              </a:rPr>
              <a:t>cluste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pyru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mag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Papyrus"/>
              </a:rPr>
              <a:t>reconstructed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 based on the clusters represented by the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many2" descr=""/>
          <p:cNvPicPr/>
          <p:nvPr/>
        </p:nvPicPr>
        <p:blipFill>
          <a:blip r:embed="rId1"/>
          <a:stretch/>
        </p:blipFill>
        <p:spPr>
          <a:xfrm>
            <a:off x="0" y="167652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16" name="mant" descr=""/>
          <p:cNvPicPr/>
          <p:nvPr/>
        </p:nvPicPr>
        <p:blipFill>
          <a:blip r:embed="rId2"/>
          <a:stretch/>
        </p:blipFill>
        <p:spPr>
          <a:xfrm>
            <a:off x="4317840" y="1752480"/>
            <a:ext cx="48261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429000" cy="3679560"/>
          </a:xfrm>
          <a:prstGeom prst="rect">
            <a:avLst/>
          </a:prstGeom>
          <a:ln w="0">
            <a:noFill/>
          </a:ln>
        </p:spPr>
      </p:pic>
      <p:pic>
        <p:nvPicPr>
          <p:cNvPr id="118" name="im22" descr=""/>
          <p:cNvPicPr/>
          <p:nvPr/>
        </p:nvPicPr>
        <p:blipFill>
          <a:blip r:embed="rId2"/>
          <a:stretch/>
        </p:blipFill>
        <p:spPr>
          <a:xfrm>
            <a:off x="4114800" y="533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PCA performs image segmentation based on the  patterns of values in the image. This pattern represents tex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is  pattern can also represent color , hence  this segmentation can  be used for segmentation based o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)  Depends on the clustering algorithm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)The re-synthesis of textures using gaussian distribution can be used as an image enhancement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5) Using texture re-synthesis and PCA together  produces a good segmented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6) Same computation require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7)This can also be used to transmit  images in a compact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mage seg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Object de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mage enh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Reading of satellite and radar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Papyrus"/>
                <a:hlinkClick r:id="rId1"/>
              </a:rPr>
              <a:t>http://faculty.washington.edu/kayee/pca/pca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Papyrus"/>
                <a:hlinkClick r:id="rId2"/>
              </a:rPr>
              <a:t>http://www.informatik.uni-mannheim.de/pi4/publications/library/Haenselmann2002a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Papyrus"/>
                <a:hlinkClick r:id="rId3"/>
              </a:rPr>
              <a:t>http://www.cs.otago.ac.nz/cosc453/student_tutorials/principal_components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62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Step 1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image is split into sliding blocks of 3 x 3 such that  each pixel is represented by its 8-neighborh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liding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5257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Step 2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Papyrus"/>
              </a:rPr>
              <a:t>PRINCIPAL COMPONENT ANALYSIS</a:t>
            </a: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228600"/>
            <a:ext cx="7772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CA is, at its essence, a rotation and scalng of a dat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 rotation is selected so that the axes are aligned with the directions of greatest variation in the dat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 scaling is selected so that distances along each axis are comparable in a statistical sense. Rotation and scaling are linear operations, so the PCA transformation maintains all linear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g17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2606760" cy="2593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38862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component analysis of a two-dimensional data cloud. The line shown is the direction of the first principal component, which gives an optimal  linear reduction of dimension from 2 to 1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1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110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6:59:52Z</dcterms:created>
  <dc:creator>vasu</dc:creator>
  <dc:description/>
  <dc:language>en-US</dc:language>
  <cp:lastModifiedBy>vasu</cp:lastModifiedBy>
  <dcterms:modified xsi:type="dcterms:W3CDTF">2004-11-23T17:32:02Z</dcterms:modified>
  <cp:revision>25</cp:revision>
  <dc:subject/>
  <dc:title>PowerPoint Presentation</dc:title>
</cp:coreProperties>
</file>