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35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7.jpeg" ContentType="image/jpeg"/>
  <Override PartName="/ppt/media/image12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4125-02AA-46CB-A71D-2969B3B6F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932D-5C6D-4E43-BD2F-A81402FD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0B70-071D-4427-A8AC-A3046640D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3623-E3FC-479C-89E9-9F30A3F63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98E4-6D31-4439-9BCD-591CE57E0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918F-FE16-4746-8FD7-E9D414A1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4C4E-2A79-483C-8071-7CF2CFC2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DC2A-8FB0-4A7D-9DBB-8A232207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F547-D82D-46F2-9BC7-3DCB63AD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7B92-9B58-4CBE-A356-43E6B6A4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A3EA-D624-4FDE-9138-03476FDD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936A-CB1E-4400-A338-08390380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BA71-B6C2-4EBA-B72A-56FF0481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DFB1-E013-404E-9028-304BB7D1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C373-0A09-4866-81E9-234BD498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42D3-8E66-4BDB-8ECC-E0B9500DE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BD17-7D5C-4A36-9B5D-CB755ABE4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1896-DFB1-41B1-9021-40F28823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4F41-506D-406D-84B8-D2B5851A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93AE-8E82-446D-8006-550F7D80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24D7-14D2-415A-AE8F-A95CBDB5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648C-5895-405B-ABE2-A55765FB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C495-258B-4FD4-901D-CEFB5073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0CCF-AD07-4049-9E68-CF74EA55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7A13-11B4-4BA5-90D4-E91A4A9C65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86CF-B544-458A-9722-20C96A7451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www.cog.brown.edu/~tarr/pdf/Tarr02ECS.pdf#search=&apos;object%20recognition" TargetMode="External"/><Relationship Id="rId2" Type="http://schemas.openxmlformats.org/officeDocument/2006/relationships/hyperlink" Target="http://csdl.computer.org/comp/proceedings/icip/1997/8183/03/81830408abs.htm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Object Recogni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m McGr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IS 60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finite classification imp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dea of a finite set of classes is quite limi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sponds with industries’ use of object recognition: very application specif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cates that computer object recognition techniques lack some abilities which are simple for huma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fferences in classif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ques thus far only classify objects based on their shape, color, texture, etc.  These are only representative of the light reflected by an obj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s classify objects many ways, including an object’s functio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 example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lassify a ring of rocks with a fire inside as a fire p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lassify a board as a joist once it is installed as support for the flo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lassify our computer as a paperweight once it is more than five years o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n an image, we want to find all places in the image which contain a subimage, also called a templ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useful for answering ‘where is the ‘x’ in this picture?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ice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gnition models typically rely on input from optical sens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h input is represented entirely in two-dimensional spac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a 3D representation necess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RPA challenge was not successfully comple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my’s LADAR sensors, which provide depth data, have demonstrated more cap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D Object recognition with neural tre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stage extracts features from the input range ima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features are used in the second stage to group image pixels into different surface patches according to the six surface classes proposed by the differential geometry.(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varia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ide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(g(A),g(B)) = D(A,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all g in transformation group 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very many possible transformations in G, and computation times becomes a probl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arying goals of object recogni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we looking for “that” object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e recogn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we looking for “one of those” objec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earch for 1987 Chevy pick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ice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 because an object exists in an image doesn’t mean it is recogniz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 from Late Night with Conan O’Bri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object recogniti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ception of objects is different for humans than for compu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humans: perception of familiar ite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computers: perception of familiar patter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they really the same th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 don’t know what this is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514600" y="2514600"/>
            <a:ext cx="41148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cognizable as a human face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41911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cognizable as the pope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286000" y="2514600"/>
            <a:ext cx="41911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unch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286000" y="2514600"/>
            <a:ext cx="44197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gram approach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y bad results for images wi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ch no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target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tightly controlled conditions, moderate success can be achie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isy histogra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57200" y="23511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isy histogra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" y="23511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isy histogra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23511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rrelation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the fl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905120" y="2590920"/>
            <a:ext cx="47242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ate templ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ual template size: 32X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3149640" y="3809880"/>
            <a:ext cx="29192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do we mean by ‘objects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e call object recognition may also be called pattern recogni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attern is an arrangement of descript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ptors may have more forms, but they are primarily vectors and str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quire input im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ual image size: 1600X12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286000" y="274320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ute correlation im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ual image size: 1600X12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057400" y="266688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how areas of best m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ual image size: 1600X12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752480" y="257184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nd flower with more noi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rce image: 1600X12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2514600" y="28954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rrelation im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ea of best match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mplates for a co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quire a templa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2286000" y="25146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quire target im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ual size: 1600X12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2438280" y="289548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ute correlation im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splay area of best m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re generally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 recognition is the process whereby observers are able to recognize three-dimensional objects despite receiving only two-dimensional input that varies greatly depending on viewing conditions.(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nding coin among noi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rrelation im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ightest coin – wrong 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3152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mong different noise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rrelation im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in f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838080" y="1217520"/>
            <a:ext cx="73915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ructural approach to stap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quire source stapler im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3048120" y="29718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gment and find the stapler ed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ute the bound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age recreated from computed boundar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556236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lect boundary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undary points at distance of 8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79246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 main approa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ision-theore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terns described using quantitative descrip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terns represented by symbolic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ngs, for examp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mage recreated from boundary point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are to a different view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gment and acquire bound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mage redrawn from boundary data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oundary points selected at a distance of 8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05960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drawn from selected boundary point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nal ste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 the chain code strings of the 2 sets of boundary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nding boundaries with noi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m filters for each target image may be requir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2743200" y="31240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rn object recognition techniques can provide much functionality in controlled environ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ulation of human object recognition capabilities is a long way of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st way to search for ob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est approach to create an image search engine requires extensive human labor involving organizing every image in the database into it’s correct hierarchical posi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put as text can provide as much functionality as input from images in this approa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cision Theore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discriminant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x = (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…, 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esent an n-dimensional pattern ve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W = (w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… ,w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be pattern clas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gital Image Processing using Matl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ntice Hall, ISBN 0-13-008519-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hael Tarr, Brown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http://www.cog.brown.edu/~tarr/pdf/Tarr02ECS.pdf#search='object%20recogn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D Object Recognition by Neural Tre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http://csdl.computer.org/comp/proceedings/icip/1997/8183/03/81830408abs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ngjin Jan Latecki, CIS 601 Lecture no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cis.temple.edu/~latecki/CIS601-04/lectures_fall04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sic problem of decision-theoret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ant to find W decision functions 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x), 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x),…,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x) with the propert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a pattern x belongs to class w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then      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x) &gt; 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x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j = 1, 2, …, W; j != 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other words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ant to classify x, which is a patter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given a finite set of classes of obje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ant to categorize the pattern x into one of the clas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do so, we apply x to all decision functions, and categorize x to the class of best f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ructur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esents objects as strings, trees, graphs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 descriptors and recognition rules base on the represent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17:13:05Z</dcterms:created>
  <dc:creator>Tom McGrath</dc:creator>
  <dc:description/>
  <dc:language>en-US</dc:language>
  <cp:lastModifiedBy>Tom McGrath</cp:lastModifiedBy>
  <dcterms:modified xsi:type="dcterms:W3CDTF">2004-12-13T20:16:51Z</dcterms:modified>
  <cp:revision>10</cp:revision>
  <dc:subject/>
  <dc:title>Object Recognition</dc:title>
</cp:coreProperties>
</file>