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42A-B8F8-41CC-8FAF-9A2F18E1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27C-65AA-45A3-9931-96693433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C86-886B-4BD8-B099-A0B26870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2FC-7F3C-4AF3-BC55-53859217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5BA6-4DCC-4FDB-80F0-AAD1740A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C908-5C83-4FA8-A7E3-71CFA0A8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E7C5-49A8-4D2D-BC60-8AD9E015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DBBD-8452-46A2-9618-EFFEB3E5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82BA-C6CB-42C1-99D9-8A258A8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3A2E-C070-4AA9-B2DF-57D83156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4663-98B8-4235-8BD1-DAE3CC1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7B3-5090-42F1-8A7B-78337986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BFC1-E383-48E9-9959-EAE75AB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15D1-6F73-4213-BFCA-0B4E0C06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C80C-529C-4783-8878-A2928313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9265-7DD7-4C18-9F00-47E9BC93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F3DF-F86B-451A-A31C-3287C37A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9F9-F01C-4C92-B1BF-7CF38D4A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F60-BB44-41A5-8503-5362BB75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E76-C921-4ED9-B7AF-2203467C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583-43D2-4C4F-9068-257FACEF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623-0DFD-47B8-9FDB-C3E44B5B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275-7E0D-422E-BEAB-3E5BBAA0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8CB-C62F-436D-B4AD-981BB3CD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8D30-4CC1-410B-82A6-3EB118467E67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2121-48B7-4B1F-91F6-63B10E58727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C54A-A845-4F41-BFEC-7223799C768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E93F-ADFB-442E-B77A-97142932040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is.hut.fi/projects/ica/" TargetMode="External"/><Relationship Id="rId2" Type="http://schemas.openxmlformats.org/officeDocument/2006/relationships/hyperlink" Target="http://www.cis.hut.fi/projects/ica/" TargetMode="External"/><Relationship Id="rId3" Type="http://schemas.openxmlformats.org/officeDocument/2006/relationships/hyperlink" Target="http://www.cis.hut.fi/projects/ica/" TargetMode="External"/><Relationship Id="rId4" Type="http://schemas.openxmlformats.org/officeDocument/2006/relationships/hyperlink" Target="http://www.cis.hut.fi/projects/ica/" TargetMode="External"/><Relationship Id="rId5" Type="http://schemas.openxmlformats.org/officeDocument/2006/relationships/hyperlink" Target="http://www.cis.hut.fi/projects/ica/" TargetMode="External"/><Relationship Id="rId6" Type="http://schemas.openxmlformats.org/officeDocument/2006/relationships/hyperlink" Target="http://www.cis.hut.fi/projects/ica/" TargetMode="External"/><Relationship Id="rId7" Type="http://schemas.openxmlformats.org/officeDocument/2006/relationships/hyperlink" Target="http://www.cis.hut.fi/projects/ica/" TargetMode="External"/><Relationship Id="rId8" Type="http://schemas.openxmlformats.org/officeDocument/2006/relationships/hyperlink" Target="http://robotics.eecs.berkeley.edu/~mayi/imgproc/" TargetMode="External"/><Relationship Id="rId9" Type="http://schemas.openxmlformats.org/officeDocument/2006/relationships/hyperlink" Target="http://robotics.eecs.berkeley.edu/~mayi/imgproc/" TargetMode="External"/><Relationship Id="rId10" Type="http://schemas.openxmlformats.org/officeDocument/2006/relationships/hyperlink" Target="http://robotics.eecs.berkeley.edu/~mayi/imgproc/" TargetMode="External"/><Relationship Id="rId11" Type="http://schemas.openxmlformats.org/officeDocument/2006/relationships/hyperlink" Target="http://robotics.eecs.berkeley.edu/~mayi/imgproc/" TargetMode="External"/><Relationship Id="rId12" Type="http://schemas.openxmlformats.org/officeDocument/2006/relationships/hyperlink" Target="http://robotics.eecs.berkeley.edu/~mayi/imgproc/" TargetMode="External"/><Relationship Id="rId13" Type="http://schemas.openxmlformats.org/officeDocument/2006/relationships/hyperlink" Target="http://robotics.eecs.berkeley.edu/~mayi/imgproc/" TargetMode="External"/><Relationship Id="rId14" Type="http://schemas.openxmlformats.org/officeDocument/2006/relationships/hyperlink" Target="http://robotics.eecs.berkeley.edu/~mayi/imgproc/" TargetMode="External"/><Relationship Id="rId15" Type="http://schemas.openxmlformats.org/officeDocument/2006/relationships/hyperlink" Target="http://robotics.eecs.berkeley.edu/~mayi/imgproc/" TargetMode="External"/><Relationship Id="rId16" Type="http://schemas.openxmlformats.org/officeDocument/2006/relationships/hyperlink" Target="http://robotics.eecs.berkeley.edu/~mayi/imgproc/" TargetMode="External"/><Relationship Id="rId17" Type="http://schemas.openxmlformats.org/officeDocument/2006/relationships/hyperlink" Target="http://robotics.eecs.berkeley.edu/~mayi/imgproc/" TargetMode="External"/><Relationship Id="rId18" Type="http://schemas.openxmlformats.org/officeDocument/2006/relationships/hyperlink" Target="http://robotics.eecs.berkeley.edu/~mayi/imgproc/" TargetMode="External"/><Relationship Id="rId19" Type="http://schemas.openxmlformats.org/officeDocument/2006/relationships/hyperlink" Target="http://knight.cis.temple.edu/~video/VA/" TargetMode="External"/><Relationship Id="rId20" Type="http://schemas.openxmlformats.org/officeDocument/2006/relationships/hyperlink" Target="http://knight.cis.temple.edu/~video/VA/" TargetMode="External"/><Relationship Id="rId21" Type="http://schemas.openxmlformats.org/officeDocument/2006/relationships/hyperlink" Target="http://knight.cis.temple.edu/~video/VA/" TargetMode="External"/><Relationship Id="rId22" Type="http://schemas.openxmlformats.org/officeDocument/2006/relationships/hyperlink" Target="http://knight.cis.temple.edu/~video/VA/" TargetMode="External"/><Relationship Id="rId23" Type="http://schemas.openxmlformats.org/officeDocument/2006/relationships/hyperlink" Target="http://knight.cis.temple.edu/~video/VA/" TargetMode="External"/><Relationship Id="rId2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00000" y="980640"/>
            <a:ext cx="699444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dge Detection Using IC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87280" y="3860640"/>
            <a:ext cx="745344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or: Dr. Longin Jan Latec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: Guoqiang 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lass: CIS 601 Computer Graphics and Image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December 6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DDFA-0210-49B0-85B5-D04D168F3A3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034A4A8-DFE6-4BDF-96B9-C9ECC12BD3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verage Image as substitut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oints changing a lot among images, average image can not give a good result. The points are just the points we need care more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of is to obtain sense, not for simplifying the cal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A calculation is still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1ED-724C-4EA5-810D-2F9BF6286F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024B3-0551-4936-9EB7-B353D1D780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cality of Imag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ty is the similarity of neighbor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is where locality is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ty can be represented by m*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79640" y="3499920"/>
            <a:ext cx="3492720" cy="2413080"/>
            <a:chOff x="2879640" y="3499920"/>
            <a:chExt cx="3492720" cy="2413080"/>
          </a:xfrm>
        </p:grpSpPr>
        <p:sp>
          <p:nvSpPr>
            <p:cNvPr id="141" name=""/>
            <p:cNvSpPr/>
            <p:nvPr/>
          </p:nvSpPr>
          <p:spPr>
            <a:xfrm>
              <a:off x="2879640" y="3500280"/>
              <a:ext cx="3492720" cy="2411640"/>
            </a:xfrm>
            <a:prstGeom prst="rect">
              <a:avLst/>
            </a:prstGeom>
            <a:solidFill>
              <a:srgbClr val="cc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79640" y="4329000"/>
              <a:ext cx="3456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9640" y="5119560"/>
              <a:ext cx="349272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6920" y="3500280"/>
              <a:ext cx="0" cy="2411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06920" y="3500280"/>
              <a:ext cx="0" cy="2411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508720" y="3499920"/>
              <a:ext cx="0" cy="2413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D06-4506-46B0-AA58-6F3C935EC8B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6D535-23FD-4298-8B5E-61A23DAB89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cality vs. one component of 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ty is simi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mponent shows common features among corresponding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conne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420-324C-4E0C-9A90-7BF42DA5E3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B39E0-6FB1-43CF-AE86-AF08288960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hape the matrix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63640" y="1846440"/>
            <a:ext cx="5688000" cy="4319280"/>
            <a:chOff x="1763640" y="1846440"/>
            <a:chExt cx="5688000" cy="4319280"/>
          </a:xfrm>
        </p:grpSpPr>
        <p:sp>
          <p:nvSpPr>
            <p:cNvPr id="151" name=""/>
            <p:cNvSpPr/>
            <p:nvPr/>
          </p:nvSpPr>
          <p:spPr>
            <a:xfrm>
              <a:off x="6804000" y="1846440"/>
              <a:ext cx="647640" cy="4319280"/>
            </a:xfrm>
            <a:prstGeom prst="rect">
              <a:avLst/>
            </a:prstGeom>
            <a:solidFill>
              <a:srgbClr val="cc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4000" y="2602080"/>
              <a:ext cx="64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04000" y="2962440"/>
              <a:ext cx="64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04000" y="3322800"/>
              <a:ext cx="64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04000" y="3681360"/>
              <a:ext cx="64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04000" y="5770440"/>
              <a:ext cx="64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04000" y="5410080"/>
              <a:ext cx="64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04000" y="5049720"/>
              <a:ext cx="64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04000" y="4689360"/>
              <a:ext cx="64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04000" y="4365720"/>
              <a:ext cx="64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04000" y="4041720"/>
              <a:ext cx="64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04000" y="2241720"/>
              <a:ext cx="64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3640" y="2673360"/>
              <a:ext cx="3492720" cy="2411280"/>
            </a:xfrm>
            <a:prstGeom prst="rect">
              <a:avLst/>
            </a:prstGeom>
            <a:solidFill>
              <a:srgbClr val="cc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63640" y="3502080"/>
              <a:ext cx="3456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63640" y="4292640"/>
              <a:ext cx="349272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90920" y="2673360"/>
              <a:ext cx="0" cy="2411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90920" y="2673360"/>
              <a:ext cx="0" cy="2411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392720" y="2673000"/>
              <a:ext cx="0" cy="2413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72000" y="3825720"/>
              <a:ext cx="971640" cy="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8FF-F2DE-4A5B-8E8D-A44EECCC7B0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7D7C6-8859-4FC6-A8F9-CF5BFAF794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ne image =&gt; Several Ima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nect locality with ICA component, consider the reshaped vector as column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ize of the image is X*Y, we have       (X-m+1)*(Y-n+1) vectors. They consist of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s the overlap of the original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1440" y="4078440"/>
            <a:ext cx="2844720" cy="158400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26160" y="4257720"/>
            <a:ext cx="2844720" cy="154944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5440" y="4437000"/>
            <a:ext cx="2844720" cy="154944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4720" y="4616280"/>
            <a:ext cx="2844720" cy="154944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4795920"/>
            <a:ext cx="2845080" cy="154944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43640" y="4975200"/>
            <a:ext cx="2844720" cy="154944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19280" y="4400640"/>
            <a:ext cx="21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image starts at (1..m, 1..n). Different image starts differen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995640" y="4581000"/>
            <a:ext cx="971640" cy="3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B85-FC16-4F0B-9D4A-BEB5A2F989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1C7BD-D960-40D6-8AF4-7D4505F66F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move component Sj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s ready, run 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 = locality, thus remove Sj and the corresponding basic vector A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ruct one of the overlapped images by other signals and other basic 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age will show only low locality,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800-5A6A-45FC-B2E1-9FEE4E7766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DFA22-0B7D-43B4-8BC8-5F5B509BEE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is method vs. 3*3 Operators (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*3 operators have pre-defined coeffici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has self-adaptive coeffic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efficient matrix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A’ = A after removing Aj, A’*W is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’re the optimal coefficients for a particular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6F7-020C-4AFE-81C4-6BEF8B33B2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3DF36-FA5C-4025-BD71-5A43E76343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is method vs. 3*3 Operators (2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*3 operators have pre-defined number of coeffic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has a flexible number of coeffic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exibility provides a better choice if the edges are mainly vertical or horizo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1E6-07DF-4F11-9275-EC247E2938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C121A-D7C6-4B14-BA50-DF186BE7F8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eriments (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2000" y="5624640"/>
            <a:ext cx="789480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543480" cy="3554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80000" y="1773360"/>
            <a:ext cx="3564000" cy="35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0A6-00BC-4F73-9623-242FC5C592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F8CFB-DD1E-4650-9852-F925B1A81C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eriments (2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896000" y="1808280"/>
            <a:ext cx="3568680" cy="3600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3554280" cy="35542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92000" y="5624640"/>
            <a:ext cx="789480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detection by 3*3 operator and 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762-8961-4992-8B5A-7B224EB52CF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F278D-00C8-4AA9-9828-F5F0B08069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sic Ide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difference of the corresponding pixels between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xel is independent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: Limit the scope of any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: No relation among neighbor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as letter detection &amp; mo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locality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ty: neighbor pixels tend sam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912-F768-4763-8F78-C12747F91D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B672D-DBB4-4783-95CD-3F0A738618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eriments (3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19280" y="1700280"/>
            <a:ext cx="3762360" cy="37846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780000" cy="3773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000" y="5697360"/>
            <a:ext cx="800244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 detection by 3*3 operator and 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028-DA49-4842-A428-6A9835F9EF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4E7CC-7EA5-4C16-9A78-5190E923BB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eriments (4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08000" y="170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36836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iginal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672000" y="170028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335640" y="1700280"/>
            <a:ext cx="2475000" cy="2484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600360" y="4437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most of 3*3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472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this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546-8D5B-4DF0-BAE0-206946ED8E3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B5609-6BAB-43AF-A5AB-349598C1AB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eriments (5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3885840"/>
            <a:ext cx="7238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 Image                                                  I plane after RGB2YI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bow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925720" cy="1954440"/>
          </a:xfrm>
          <a:prstGeom prst="rect">
            <a:avLst/>
          </a:prstGeom>
          <a:ln w="0">
            <a:noFill/>
          </a:ln>
        </p:spPr>
      </p:pic>
      <p:pic>
        <p:nvPicPr>
          <p:cNvPr id="208" name="bow-i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2925720" cy="1954440"/>
          </a:xfrm>
          <a:prstGeom prst="rect">
            <a:avLst/>
          </a:prstGeom>
          <a:ln w="0">
            <a:noFill/>
          </a:ln>
        </p:spPr>
      </p:pic>
      <p:pic>
        <p:nvPicPr>
          <p:cNvPr id="209" name="bow-i-sobel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2895840" cy="1933560"/>
          </a:xfrm>
          <a:prstGeom prst="rect">
            <a:avLst/>
          </a:prstGeom>
          <a:ln w="0">
            <a:noFill/>
          </a:ln>
        </p:spPr>
      </p:pic>
      <p:pic>
        <p:nvPicPr>
          <p:cNvPr id="210" name="bow-i-ica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895480" cy="1927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14400" y="6324480"/>
            <a:ext cx="723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*3 Operator                                                          This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4FE-2D9C-413F-8D3F-AC0D059D35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345DE-E06B-4A2B-A3A7-DC71A5F110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clu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A provides a solution for edge det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provides the more accurate coefficients, compared to 3*3 op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figures the locality window size flexi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recognize some edges, unable to be done by 3*3 op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41F-DAB8-4707-90D5-7DBDF6C62F3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D45AA-0668-402A-9872-29FA872DFE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ture wo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processing on the image for edg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 processing on result by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best locality window not by 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what kind of images it is proper to use and what kind is impro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ICA more efficien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E91-A697-40CF-9226-6AE2FCABAAA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1D7EE-1CAF-4763-A485-44E0B8E93E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fer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s and Everson, Independent Component Analysis – Principles and Practice, Cambridge University Press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and software on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is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.hut.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fi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/projects/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ica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edge detection methods on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http://robotics.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eecs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1"/>
              </a:rPr>
              <a:t>berkeley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edu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4"/>
              </a:rPr>
              <a:t>/~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5"/>
              </a:rPr>
              <a:t>mayi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6"/>
              </a:rPr>
              <a:t>/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7"/>
              </a:rPr>
              <a:t>imgproc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Analysis using Principal Component Analysis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9"/>
              </a:rPr>
              <a:t>http://knight.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20"/>
              </a:rPr>
              <a:t>cis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21"/>
              </a:rPr>
              <a:t>.temple.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22"/>
              </a:rPr>
              <a:t>edu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23"/>
              </a:rPr>
              <a:t>/~video/V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CCA-4E47-411D-B347-BFDC23B76A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3D8B5-2DF1-473B-AF3E-8869534A1B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Quick Tip of 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(k) = A*S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: m*n, m independent signals length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m*n, m mixed signals length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*m, each column of A is a basic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(k) = W*X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m*m, separating independent signals from mixed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D13-F936-4A2E-A0F8-A48C9CAA87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E9B7F-CD56-429C-9CE5-4F13B57D42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 (j,:) = average image?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19280" y="3715920"/>
            <a:ext cx="201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Frame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2000" y="4041720"/>
            <a:ext cx="3419640" cy="216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2000" y="1557360"/>
            <a:ext cx="341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08360" y="1557360"/>
            <a:ext cx="3456000" cy="2182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643280" y="4041720"/>
            <a:ext cx="3421080" cy="216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27640" y="36813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: Frame 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9280" y="620064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: 1 Component of 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6237360"/>
            <a:ext cx="29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: Averag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704-F7AC-49CA-9413-F77033EDAD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4D8D3-83F6-4016-B512-80AF4C34FD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ima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[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0.0549 0.055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0.00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0.01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c = 0.45a+0.55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 (c, d) &lt; 0.1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im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 (c, d) &lt; 0.2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185-D3DA-4637-8417-2BB63FC54A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2F663-9ABE-424E-BF82-9893704AF6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sic Vector(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00720" y="1592280"/>
            <a:ext cx="3744720" cy="349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68360" y="5300640"/>
            <a:ext cx="50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sic Vector is the main directions of the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1600200"/>
            <a:ext cx="370836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8C1-6561-4334-91E6-E8E83E8B473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3BC51-AE33-4B44-ACE0-DF1FA43314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300720" y="2565360"/>
            <a:ext cx="262728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9.988 54.280  -8.166 53.94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521000"/>
            <a:ext cx="5616360" cy="4292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宋体"/>
              </a:rPr>
              <a:t>Basic Vector(2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556000" y="2383920"/>
            <a:ext cx="2557440" cy="201636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4400640"/>
            <a:ext cx="610920" cy="46836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6360" y="5877000"/>
            <a:ext cx="64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lusion: One of basic vector is approximately the diag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A81-B655-43E4-BC16-8B454C39013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13B65-F658-4EE2-A3C4-5487DA5EC3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sic Vector (3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5734080"/>
            <a:ext cx="80024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(b-t)/(a-t) =&gt; t = a+(a-b)/(k-1), when k=-1, t = (a+b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6360" y="5229360"/>
            <a:ext cx="31672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376360" y="2312640"/>
            <a:ext cx="0" cy="2916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376360" y="2599920"/>
            <a:ext cx="2951280" cy="2629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995280" y="3789360"/>
            <a:ext cx="647640" cy="719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95840" y="42991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a,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5265720"/>
            <a:ext cx="2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429000"/>
            <a:ext cx="6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332100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 is 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941-75B7-4430-83EA-ADC8AD9478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857E3-E2C7-4427-8427-0E50EB0E50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nse on 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asic vector of ICA is the diagonal, or say, one component shows the common feature among images,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xed images are similar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images is not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mponents of ICA show the difference among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B4F-7E57-42D9-AE86-E5E001F495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97DD5-447D-4912-B31D-2B686B2CC3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qshan</cp:lastModifiedBy>
  <dcterms:modified xsi:type="dcterms:W3CDTF">2004-12-06T23:26:07Z</dcterms:modified>
  <cp:revision>1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