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295280" y="4223880"/>
            <a:ext cx="7391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5280" y="422388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82840" y="422388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379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94760" y="1676520"/>
            <a:ext cx="2379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3880" y="1676520"/>
            <a:ext cx="2379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295280" y="4223880"/>
            <a:ext cx="2379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94760" y="4223880"/>
            <a:ext cx="2379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293880" y="4223880"/>
            <a:ext cx="2379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731520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22388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82840" y="422388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95280" y="4223880"/>
            <a:ext cx="7391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mix1.wav" TargetMode="External"/><Relationship Id="rId2" Type="http://schemas.openxmlformats.org/officeDocument/2006/relationships/hyperlink" Target="file:///source2.wav" TargetMode="External"/><Relationship Id="rId3" Type="http://schemas.openxmlformats.org/officeDocument/2006/relationships/hyperlink" Target="file:///source1.wav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s.ucsb.edu/~cs281b/winter2002/Misc/ica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ependent Component Analysis on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structor: Dr. Longin Jan Latec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esented by:    Bo Ha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st ICA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Iteration procedure for maximizing nongauss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Step1: choose an initial weight vector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Step2: Let w</a:t>
            </a:r>
            <a:r>
              <a:rPr b="0" lang="zh-CN" sz="3200" spc="-1" strike="noStrike" baseline="30000">
                <a:solidFill>
                  <a:srgbClr val="00ffff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=E[xg(w</a:t>
            </a:r>
            <a:r>
              <a:rPr b="0" lang="zh-CN" sz="3200" spc="-1" strike="noStrike" baseline="30000">
                <a:solidFill>
                  <a:srgbClr val="00ffff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x)]-E[g’(w</a:t>
            </a:r>
            <a:r>
              <a:rPr b="0" lang="zh-CN" sz="3200" spc="-1" strike="noStrike" baseline="30000">
                <a:solidFill>
                  <a:srgbClr val="00ffff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x)]w  (g: a non-quadratic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Step3: Let w=w</a:t>
            </a:r>
            <a:r>
              <a:rPr b="0" lang="zh-CN" sz="3200" spc="-1" strike="noStrike" baseline="30000">
                <a:solidFill>
                  <a:srgbClr val="00ffff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/||w</a:t>
            </a:r>
            <a:r>
              <a:rPr b="0" lang="zh-CN" sz="3200" spc="-1" strike="noStrike" baseline="30000">
                <a:solidFill>
                  <a:srgbClr val="00ffff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|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Step4: if not converged, go back to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Step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ICA compute (exam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2160" y="2711520"/>
            <a:ext cx="62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unning an example in mat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e ICA and P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76520" y="3581280"/>
            <a:ext cx="2819160" cy="2621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486400" y="3568680"/>
            <a:ext cx="2819520" cy="2603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55760" y="1514520"/>
            <a:ext cx="71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PCA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: Finds directions of maximal variance in gaussia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ICA: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Finds directions of maximal independence in nongaussia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mbiguities with 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The ICA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X(</a:t>
            </a:r>
            <a:r>
              <a:rPr b="1" i="1" lang="zh-CN" sz="24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) = AS(</a:t>
            </a:r>
            <a:r>
              <a:rPr b="1" i="1" lang="zh-CN" sz="24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Amplitudes of separated signals cannot be determ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There is a sign ambiguity associated with separated sig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The order of separated signals cannot be determ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pply ICA On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4479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Objective: Gain independent information from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1. To get X, change each image into a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2. Generate a series of images which share some common information but changing other fixed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3. Apply 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4. Convert the ICs to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5. Sensitive to the position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pply ICA On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4479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Running MATLAB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pply ICA on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Video is a good application of 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1) Little information change between neighborhood 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asy to detect independent parts in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2) Time seri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pply ICA on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00200" y="1500120"/>
          <a:ext cx="6629400" cy="21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00120"/>
                    <a:ext cx="6629400" cy="21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600200" y="3886200"/>
          <a:ext cx="662940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886200"/>
                    <a:ext cx="66294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947400" y="61340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Source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pply ICA on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81080" y="1752480"/>
          <a:ext cx="28958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28958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562720" y="1752480"/>
          <a:ext cx="266688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752480"/>
                    <a:ext cx="26668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981080" y="4038480"/>
          <a:ext cx="2895840" cy="198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038480"/>
                    <a:ext cx="2895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726800" y="613404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562720" y="4038480"/>
          <a:ext cx="2666880" cy="198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4038480"/>
                    <a:ext cx="2666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pply ICA on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523880"/>
          <a:ext cx="68580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858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523880" y="3962520"/>
          <a:ext cx="6858000" cy="20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962520"/>
                    <a:ext cx="68580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134600" y="61340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Source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ecomposing a mixed signal into independent sour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Given: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  <a:hlinkClick r:id="rId1"/>
              </a:rPr>
              <a:t>Mixed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ur Objective is to g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urce1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  <a:hlinkClick r:id="rId2"/>
              </a:rPr>
              <a:t>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urce2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  <a:hlinkClick r:id="rId3"/>
              </a:rPr>
              <a:t>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CA (Independent Component Analysis) is a quite powerful technique to separate independent source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pply ICA on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52480" y="1600200"/>
          <a:ext cx="2590920" cy="18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259092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181480" y="1600200"/>
          <a:ext cx="2590920" cy="18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600200"/>
                    <a:ext cx="259092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752480" y="4038480"/>
          <a:ext cx="2590920" cy="181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038480"/>
                    <a:ext cx="259092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4492080" y="613404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181480" y="4038480"/>
          <a:ext cx="2590920" cy="177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4038480"/>
                    <a:ext cx="259092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CA can be used to detect independent changing/moving part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ages  and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ut ICA is very sensitive to the position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CA simplify the work of motion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Aapo Hyvärinen and Erkki Oja, Independent Component Analysis: Algorithms and Applications</a:t>
            </a:r>
            <a:r>
              <a:rPr b="0" i="1" lang="zh-CN" sz="2400" spc="-1" strike="noStrike">
                <a:solidFill>
                  <a:srgbClr val="00ffff"/>
                </a:solidFill>
                <a:latin typeface="Times New Roman"/>
              </a:rPr>
              <a:t>. Neural Networks</a:t>
            </a: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, 13(4-5):411-430, 2000</a:t>
            </a:r>
            <a:r>
              <a:rPr b="0" lang="zh-CN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Alphan Altinok, </a:t>
            </a:r>
            <a:r>
              <a:rPr b="0" lang="zh-CN" sz="2400" spc="-1" strike="noStrike" u="sng">
                <a:solidFill>
                  <a:srgbClr val="00ffff"/>
                </a:solidFill>
                <a:uFillTx/>
                <a:latin typeface="Times New Roman"/>
                <a:hlinkClick r:id="rId1"/>
              </a:rPr>
              <a:t>Independent Component Analysis</a:t>
            </a: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Aapo Hyvärinen – Survey on 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D. Pokrajac and L. J. Latecki: Spatiotemporal Blocks-Based Moving Objects Identification and Tracking, IEEE Visual Surveillance and Performance Evaluation of Tracking and Surveillance (VS-PETS), October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ICA (From Math Vie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Given h measured mixture signals   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x</a:t>
            </a:r>
            <a:r>
              <a:rPr b="0" lang="zh-CN" sz="32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), 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x</a:t>
            </a:r>
            <a:r>
              <a:rPr b="0" lang="zh-CN" sz="32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), …, 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x</a:t>
            </a:r>
            <a:r>
              <a:rPr b="0" lang="zh-CN" sz="3200" spc="-1" strike="noStrike" baseline="-25000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i="1" lang="zh-CN" sz="24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 is the discrete time index or pixels in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Assume a linear combination matrix form of q source sign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) = 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1" i="1" lang="zh-CN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</a:rPr>
              <a:t> =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Σ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</a:t>
            </a:r>
            <a:r>
              <a:rPr b="0" lang="zh-CN" sz="3200" spc="-1" strike="noStrike" baseline="-25000">
                <a:solidFill>
                  <a:srgbClr val="00ffff"/>
                </a:solidFill>
                <a:latin typeface="Times New Roman"/>
                <a:ea typeface="Times New Roman"/>
              </a:rPr>
              <a:t>i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k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</a:t>
            </a:r>
            <a:r>
              <a:rPr b="1" i="1" lang="zh-CN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</a:t>
            </a:r>
            <a:r>
              <a:rPr b="0" lang="zh-CN" sz="3200" spc="-1" strike="noStrike" baseline="-25000">
                <a:solidFill>
                  <a:srgbClr val="00ffff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: mixing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q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source signals   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zh-CN" sz="32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), 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zh-CN" sz="32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), …, s</a:t>
            </a:r>
            <a:r>
              <a:rPr b="0" lang="zh-CN" sz="3200" spc="-1" strike="noStrike" baseline="-25000">
                <a:solidFill>
                  <a:srgbClr val="00ffff"/>
                </a:solidFill>
                <a:latin typeface="Times New Roman"/>
              </a:rPr>
              <a:t>q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Arial"/>
              </a:rPr>
              <a:t>Easy from A,S to compute X=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ffff"/>
                </a:solidFill>
                <a:latin typeface="Arial"/>
              </a:rPr>
              <a:t>Difficult to compute A, S from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Arial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1. Statistical independence for source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), </a:t>
            </a:r>
            <a:r>
              <a:rPr b="1" i="1" lang="zh-CN" sz="24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), …, </a:t>
            </a:r>
            <a:r>
              <a:rPr b="1" i="1" lang="zh-CN" sz="24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00ffff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)] =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П </a:t>
            </a:r>
            <a:r>
              <a:rPr b="1" i="1" lang="zh-CN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[</a:t>
            </a:r>
            <a:r>
              <a:rPr b="1" i="1" lang="zh-CN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</a:t>
            </a:r>
            <a:r>
              <a:rPr b="1" lang="zh-CN" sz="2400" spc="-1" strike="noStrike" baseline="-25000">
                <a:solidFill>
                  <a:srgbClr val="00ffff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2. Each source signal has nongauss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695760" y="4800600"/>
          <a:ext cx="1942920" cy="15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5760" y="4800600"/>
                    <a:ext cx="194292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portant Properties of Independent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] = 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ffff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]E[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h1, h2 are two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ro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3429000"/>
            <a:ext cx="647712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09680" y="3581280"/>
                <a:ext cx="6248520" cy="23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nary>
                      </m:e>
                      <m:e>
                        <m:m>
                          <m:m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  <m:e/>
                            <m:e/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  <m:nary>
                                <m:naryPr>
                                  <m:chr m:val="∬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  <m:e/>
                            <m:e/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nary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  <m:e/>
                            <m:e/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]</m:t>
                              </m:r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6104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ncorrelated: Partly Indepen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correlat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[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 y</a:t>
            </a:r>
            <a:r>
              <a:rPr b="0" i="1" lang="zh-CN" sz="32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y</a:t>
            </a:r>
            <a:r>
              <a:rPr b="0" i="1" lang="zh-CN" sz="32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] = 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[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y</a:t>
            </a:r>
            <a:r>
              <a:rPr b="0" i="1" lang="zh-CN" sz="3200" spc="-1" strike="noStrike" baseline="-25000">
                <a:solidFill>
                  <a:srgbClr val="00ffff"/>
                </a:solidFill>
                <a:latin typeface="Times New Roman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]E[</a:t>
            </a:r>
            <a:r>
              <a:rPr b="0" i="1" lang="zh-CN" sz="3200" spc="-1" strike="noStrike">
                <a:solidFill>
                  <a:srgbClr val="00ffff"/>
                </a:solidFill>
                <a:latin typeface="Times New Roman"/>
              </a:rPr>
              <a:t>y</a:t>
            </a:r>
            <a:r>
              <a:rPr b="0" lang="zh-CN" sz="32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   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et h(y)=y, Independent </a:t>
            </a:r>
            <a:r>
              <a:rPr b="0" lang="zh-CN" sz="32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Uncor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3886200"/>
            <a:ext cx="2286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14600" y="3962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02920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39625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47400" y="48769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04400" y="48769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600" y="53341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3657600"/>
            <a:ext cx="5029200" cy="28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4 points (0, 1) (0, -1) (-1, 0) (1, 0) with equal possibility  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 y</a:t>
            </a:r>
            <a:r>
              <a:rPr b="1" i="1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] = 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]E[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ut  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 y</a:t>
            </a:r>
            <a:r>
              <a:rPr b="1" i="1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1" i="1" lang="en-US" sz="24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]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1" i="1" lang="en-US" sz="24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]E[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]=1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ICA Comp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Basic idea:</a:t>
            </a:r>
            <a:r>
              <a:rPr b="0" lang="zh-CN" sz="32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X(k)=AS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Solution S(k)=A</a:t>
            </a:r>
            <a:r>
              <a:rPr b="0" lang="zh-CN" sz="3200" spc="-1" strike="noStrike" baseline="30000">
                <a:solidFill>
                  <a:srgbClr val="00ffff"/>
                </a:solidFill>
                <a:latin typeface="Times New Roman"/>
              </a:rPr>
              <a:t>-1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X(k)=WX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1. Centering: resulting a variable with 0-mean valu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2. Whiten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Remove any correlations in the data and make variance equal 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Advantage: reduce the dimens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ICA Compute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3. The appropriate rotation is sought by maximizing the nongaussia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How to measure nongauss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Kurtosis:  Kurt(y)=E[y</a:t>
            </a:r>
            <a:r>
              <a:rPr b="1" lang="zh-CN" sz="2800" spc="-1" strike="noStrike" baseline="30000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]-3(E[y</a:t>
            </a:r>
            <a:r>
              <a:rPr b="1" lang="zh-CN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])</a:t>
            </a:r>
            <a:r>
              <a:rPr b="1" lang="zh-CN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   (approach 0 for a Gaussian random v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Negentropy: Neg(y)=H(y</a:t>
            </a:r>
            <a:r>
              <a:rPr b="1" lang="zh-CN" sz="2800" spc="-1" strike="noStrike" baseline="-25000">
                <a:solidFill>
                  <a:srgbClr val="00ffff"/>
                </a:solidFill>
                <a:latin typeface="Times New Roman"/>
              </a:rPr>
              <a:t>gauss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)-H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(H is entrop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Approximations of negentropy: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J(y)=E[y</a:t>
            </a:r>
            <a:r>
              <a:rPr b="1" lang="zh-CN" sz="28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]</a:t>
            </a:r>
            <a:r>
              <a:rPr b="1" lang="zh-CN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/12 + Kurt(y)</a:t>
            </a:r>
            <a:r>
              <a:rPr b="1" lang="zh-CN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/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fferent ICA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With different measures on nongauss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FAST 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based on some nonquadrat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g(u)=tanh(a</a:t>
            </a:r>
            <a:r>
              <a:rPr b="0" lang="zh-CN" sz="32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g(u)=uexp(-u</a:t>
            </a:r>
            <a:r>
              <a:rPr b="0" lang="zh-CN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5T21:15:00Z</dcterms:created>
  <dc:creator>h</dc:creator>
  <dc:description/>
  <dc:language>en-US</dc:language>
  <cp:lastModifiedBy>hanbo</cp:lastModifiedBy>
  <dcterms:modified xsi:type="dcterms:W3CDTF">2004-11-29T17:24:06Z</dcterms:modified>
  <cp:revision>16</cp:revision>
  <dc:subject/>
  <dc:title>Independent Component Analysis on Images</dc:title>
</cp:coreProperties>
</file>