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AC4-6A80-4332-AF3A-8E91E0A1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27C-75F9-4AC2-B62C-4C502AA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067-4215-48DB-8D30-A1550785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491-325F-47D0-84AB-1A05203A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2C02-A768-460B-9D40-58B5A6A8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ACCD-A3BC-42B2-BA2C-CF3AEE27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626B-7EA3-4550-BA45-82DE8647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0B19-E90C-4ABF-BEE7-29067DDD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857-8387-4DF5-AF91-6A7865ED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AC85-9CB8-425D-8E14-8DD82F5C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BBF2-0512-4CF8-9AC3-48E343FD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A88-2EEB-4CAC-8164-154F811C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A12E-F551-4DC3-84CC-C1DF567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3EFA-B40F-4832-B27A-397E01A5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32C2-EB93-4CA2-95BD-E9AB01A7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8586-5D51-4006-9A26-5AEAF2AE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DCE9-7745-46AD-8A00-3A221F56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53B-52D6-4B13-9C14-395D449C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10F-B83F-4340-8331-EA5388FD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D23-A8E6-49A3-BF52-62D4A19E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59C-EA9B-4855-8A3E-434B9682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41E-88FF-493E-ADD3-D7A10C7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A82-FF2B-4CCB-B543-C50DEEDA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A01-D456-45C3-AF98-CE824E4B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6CF6-28D6-451E-A237-2F90CAAE792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2BDD-A428-499C-8444-7FCD66A9715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dventures of The Cub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oland Mieziank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IS 581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omputer Graphics and Image Processin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rof. Longin Jan Latecki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8C6A-22A0-409A-8F0A-2EB9B0B0BD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Objectiv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struct a 3D object in Matlab (Cube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reate and use Homogenous Coordin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pute all transformation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rans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otation x,y,z-axi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lyb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BEA-8531-4BD8-B160-51D7971B0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truct the Cube, matrix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fine matrix of vert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8x3 matri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fine matrix of fa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6x4 matri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fine matrix of vertex and face colo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6x3 matri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C43-F930-4A79-BA65-EE6E0F6A94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struct the Cube, displa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struct cube using the 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patch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comman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atch('Vertices', v, 'Faces', f, 'FaceVertexCData', fvc, 'FaceColor', 'flat', 'EdgeColor', 'none'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t colors to be transpar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pha(.5)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282-90F8-49D9-AAA3-2A1BA5BDAA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Homogeneous Equatio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tlab vertices are defined as triple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 x 3 matri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ust add additional column to the vertex matrix (N x 4 matrix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Vw = [v  vw]'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F2F-D3DD-4716-A55D-BC56ED7815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trix Operatio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trix operation to translate, scale, and rotat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otate about x-axis exampl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8098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x = [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(xang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sin(xang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n(xang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(xang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w = [v  vw]'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comp = ( rx * Vw )'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new = Vcomp(:,1:3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176-18F8-404F-A92D-85FCFC2D72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vi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3123720"/>
            <a:ext cx="45720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"Adventures of The Cube"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land Miezianko, CIS58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A9A-A036-46DE-9943-0BED535CB4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22:06:44Z</dcterms:created>
  <dc:creator>Roland Miezianko</dc:creator>
  <dc:description/>
  <dc:language>en-US</dc:language>
  <cp:lastModifiedBy>Roland Miezianko</cp:lastModifiedBy>
  <dcterms:modified xsi:type="dcterms:W3CDTF">2002-10-08T22:25:40Z</dcterms:modified>
  <cp:revision>9</cp:revision>
  <dc:subject/>
  <dc:title>Adventures of The Cube</dc:title>
</cp:coreProperties>
</file>