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8EF9-489E-4F9A-A938-514DCD555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C097-4B93-4DCB-9370-3675D05C5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453C-4426-4379-9A4F-1475F7C00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2B43-4430-4A68-9AA0-9098C267D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F98AD-6DA3-464B-A48E-DD70FD370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D2ADD-7B03-48BE-A4E4-835A4A7F3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EBE77-8D4F-4CF6-9DA7-953541DFB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69B87-D90C-4FF7-B099-AD9AD650D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E928A-9B31-4ADF-B3E2-8700E5952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59032-C5EF-47C5-AEC6-FFDCE166E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CA29C-C9D2-4E21-9383-3325E2D10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D4E4-840C-41D8-869A-A5310BA9A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A4E92-0D3C-479F-8B64-B7CE600C0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D9CA9-7F22-41C9-A12B-42F9D00C6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CA307-458D-4E9D-8EAE-D6B99A910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05062-C297-485B-9F8B-9E4242C53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400D2-B7A0-4979-8090-5473231FE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BCD4-DE88-469E-9FBE-62FFD2A41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084C-0963-4B10-9900-4054297A7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44F2-5D84-40A7-8F5D-49CF5BA1C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AF74-C37A-4C16-B30F-9CAD76C51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2CA7-202A-45F6-830B-041ECC34B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1E02-0D16-4E4B-8AC9-044108159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0610-83D8-43C0-81B2-DD262BCFC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45856-DF16-4F70-9BA2-D993D924815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C50A2-2904-4A0A-8AEA-862E0D57443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file:///../final/PF/New%20Folder/track_final1_modify.m" TargetMode="External"/><Relationship Id="rId2" Type="http://schemas.openxmlformats.org/officeDocument/2006/relationships/hyperlink" Target="file:///../final/PF/multinomialR.m" TargetMode="External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Object Tracking using Particle Filter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ndini Eas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gen Sh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S 601, Fall 20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athematical Backgroun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 implement Particle Filter we ne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e Motion model: P(x 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|x 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t-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bservation Model: p(y 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| x 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)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itial State: Est(1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athematical Backgroun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 sample from the proposal and not the posterior for estima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 take into account that we will be sampling from wrong distribution, the samples have to be likelihood weighed by ratio of posterior and proposal distributio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 t = Posterior i.e.Est (t) / proposal Distrib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= p(y 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| x 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us, weight of particle should be changed depending on observation for current fram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 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Basic Particle Filter Theor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discrete set of samples or particles represents the object-state and evolves over time driven by the means of "survival of the fittest". Nonlinear motion models can be used to predict object-states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Basic Particle Filter Theory  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(Cont.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rticle Filter is concerned with the estimation of the distribution of a stochastic process at any time instant, given some partial information up to that tim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basic model usually consists of a Markov chain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d a possibly nonlinear observation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observational noise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dependent of the signal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Basic Particle Filter Theory  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(Cont.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ystem Dynamics ie.Motion Model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(x 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| x 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0:t-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bservation Model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(y 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| x 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sterior Distributio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(x 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| y 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o..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posal Distribution is the Motion Mod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ight, w 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= Posterior / Proposal = observ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Basic Particle Filter Theory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(Cont.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iven N particles (samples)                     {x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(i)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0:t-1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z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(i)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0:t-1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i=1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t time t-1,       approximately distributed according to the distribution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dx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(i)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0:t-1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z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(i)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0:t-1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|y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1:t-1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, particle filters enable us to compute N particles    {x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(i)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0: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z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(i)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0: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i=1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pproximately distributed according to the posterior distribution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dx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(i)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0: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z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(i)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0: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|y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1: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Basic Particle Filter Theory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(Cont.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basic Particle Filter algorithm consists of 2 step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quential importance sampling ste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lection ste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 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article Filter Algorithm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quential importance sampl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s Sequential Monte Carlo simula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r each particle at time t, we sample from the transition prior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r each particle we then evaluate and normalize the importance weight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article Filter Algorithm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lection Ste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ultiply or discard particles with respect to high or low importance weights w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(i)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to obtain N particl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s selection step is what allows us to track moving objects efficientl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ao-Blackwellised Particle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ilte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BPF is an extension on PF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uses PF to compute the distribution of discrete state with Kalman Filter to compute the distribution of continuous stat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r each sample of the discrete states, the mean and covariance of the continuous state are updated using the exact computation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 have implemented the particle filter algorithm and not the RBPF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verview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ackground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asic Particle Filter Theo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o Blackwellised Particle Fil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lor Based Probabilistic Track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BPF Approach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BPF models the states as &lt;C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D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s the continuous state repres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s the discrete state repres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aim of this approach is to predict the discrete state D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ever, for our object tracking application, the above approach was unsuitabl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mplementa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 have implemented the Particle Filter algorithm in Matlab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ur approach towards this project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ading research papers on PF given to us by Dr.Latecki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ying to implement PF-RBPF algorithm written by Nando de Freit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mplementa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lor Based Probabilistic Track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se trackers rely on the deterministic search     of a window, whose color content matche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reference histogram color mode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s principle of color histogram distanc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s color based tracking is very flexible and can be extended in many way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olor Based Probabilistic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racking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combination of tools used to accomplish a given tracking task depends on whether one tries to track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bjects of a given nature eg.cars,f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bjects of a given nature with a specific attribute eg.moving cars, face of specific pers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bjects of unknown nature, but of specific interest to us eg.moving object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olor Based Probabilistic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racking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ference Color Wind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target object to be tracked forms the reference color window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ts histogram is calculated, which is used to compute the histogram distance while performing a deterministic search for a matching window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olor Based Probabilistic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racking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ate Spa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 have modeled the states, as its location in each frame of the vide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state space is represented in the spatial domain a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X = ( x , y 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 have initialized the state space for the first frame manuall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olor Based Probabilistic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racking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ystem Dynamic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second-order auto-regressive dynamics is chosen on the parameters used to represent our state space i.e (x,y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dynamics is given a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</a:rPr>
              <a:t>t+1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= Ax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+ Bx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</a:rPr>
              <a:t>t-1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atrices A and B could be learned from a set of sequences where correct tracks have been obtained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We have used an ad-hoc model for our implementation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olor Based Probabilistic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racking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bservation y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observation y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s proportional to the histogram distance between the color window of the predicted location in the frame and the reference color window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Dist(q,q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)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Where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q = reference color histogram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qx = color histogram of predicted location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olor Based Probabilistic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racking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rticle Filter Iter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ep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itialize xt for first fra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nerate a particle set of N particles {x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m=1..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ediction for each particle using second order auto-regressive dynamic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ute histogram dist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igh each particle based on histogram dist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lect the location of target as a particle with minimum histogram distanc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ampling the particles for next itera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olor Based Probabilistic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racking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 step by step look at our code, highlighting the concepts applied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itialization of state space for the first frame and calculating the reference histogram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eference = imread('reference.jpg')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[ref_count,ref_bin] = imhist(reference)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x1= 45; y1= 45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scribing the N particles within a specified window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r i = 1: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x(1,i,1) = x1 + 50 * rand(1) - 50 *rand(1);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x(2,i,1) = y1 + 50 * rand(1) - 50 *rand(1)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bject Tracking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acking objects in video involves the modeling of non-linear and non-gaussian system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n-Line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n-Gaussi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628640" y="3809880"/>
            <a:ext cx="614376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olor Based Probabilistic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racking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r each particle, we apply the second order dynamics equation to predict new state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(j==2) x(:,i,j) = A * x(:,i,j-1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lse x(:,i,j)=rand(n_x)*x(:,i,j-1)+rand(n_x)*x(:,i,j-2)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color window is defined and the histogram is calculated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ct = [(x(1,i,j)-15),(x(2,i,j)-15),30,30]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[count,binnumber] = imhist(imcrop(I(:,:,:,j),rect)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olor Based Probabilistic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racking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lculate the histogram distanc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 k = 1:25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( I , j ) = d( i, j ) + (double ( count ( k ) ) - double(ref_count( k ) ) ) ^ 2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lculating the normalized weight for each particl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(:,j) = w(:,j)./sum(w(:,j));         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(:,j) = one(:,1) - w(:,j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olor Based Probabilistic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racking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-sampling step, where the new particle set is chosen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 i = 1: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x(1,i,j) = state(1,j) + 50 * rand(1) - 50 *rand(1)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x(2,i,j) = state(2,j) + 50 * rand(1) - 50 *rand(1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olor Based Probabilistic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racking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unctions Used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Track_final1.m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: PF tracking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7e9ce8"/>
                </a:solidFill>
                <a:uFillTx/>
                <a:latin typeface="Arial"/>
                <a:hlinkClick r:id="rId2"/>
              </a:rPr>
              <a:t>multinomialR.m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: Resampling func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olor Based Probabilistic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racking: Result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4648320" y="4000320"/>
            <a:ext cx="4038480" cy="213012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457200" y="1719360"/>
            <a:ext cx="4191120" cy="212868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3"/>
          <a:stretch/>
        </p:blipFill>
        <p:spPr>
          <a:xfrm>
            <a:off x="5181480" y="1752480"/>
            <a:ext cx="3591000" cy="47246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4"/>
          <a:stretch/>
        </p:blipFill>
        <p:spPr>
          <a:xfrm>
            <a:off x="380880" y="4000680"/>
            <a:ext cx="4191120" cy="25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pplications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ideo Surveilla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esture HC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lity and Visual Effec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dical Imag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ate estimation of Rovers in outer-spa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uture Work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utomatic initialization of reference window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ulti part color window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ulti-object tracking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ferenc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. Isard and A. Blake. Condensation–conditional density propagation for visual tracking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Int. J. Computer Vision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, 29(1):5–28, 1998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D. Reid, “An algorithm for tracking multiple targets,”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IEEE Trans. on Automation and Control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, vol. AC-24,pp. 84–90, December 1979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N. Gordon, D. Salmond, and A. Smith, “Novel approach to nonlinear/non-Gaussian Bayesian state estimation,”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IEEE Procedings F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, vol. 140, no. 2, pp. 107–113, 1993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. Arulampalam, S. Maskell, N. Gordon, and T. Clapp, “A tutorial on particle filters for on-line non-linear/non-Gaussian Bayesian tracking,”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IEEE Transactions on Signal Processing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, vol. 50, pp. 174–188, Feb. 2002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Background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order to model accurately the underlying dynamics of a physical system, it is important to include elements of non-linearity and    non-gaussianity in many application area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rticle Filters can be used to achieve thi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y are sequential Monte Carlo methods based on point mass representations of probability densities, which are applied to any state mode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 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he Particle Filte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rticle Filter is concerned with the problem of tracking single and  multiple object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rticle Filter is a hypothesis tracker, that approximates the filtered posterior distribution by a set of weighted particl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weights particles based on a likelihood score and then propagates these particles according to a motion mode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athematical Backgroun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rticle Filtering estimates the state of the system, x t, as time t as the Posterior distribution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( x 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| y 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0-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t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st (t) = P( x 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| y 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0-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st(1) can be initialized using prior knowled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athematical Backgroun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rticle filtering assumes a Markov Model for system state estimation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rkov model states that past and future states are conditionally independent given current stat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us, observations are dependent only on current stat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athematical Backgroun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st(t) = P( x 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| y 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0 - 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= p(y 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| x 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y 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0 – t-1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.P(x 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| y 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0 – t-1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Using Baye’s Theorem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= p(y 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| x 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). P(x 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| y 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0 – t-1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Using Markov mode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= p(y 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| x 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). P(x 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|x 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t-1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.P(x 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t-1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| y 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0 – t-1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= p(y 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| x 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). P(x 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|x 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t-1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.Est(t-1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athematical Backgroun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nal Result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st(t) = p(y 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| x 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). P(x 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|x 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t-1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.Est(t-1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er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(y 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| x 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): Observation Mod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(x 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|x 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t-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.Est(t-1): Proposal distrib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6T01:49:29Z</dcterms:created>
  <dc:creator>NE</dc:creator>
  <dc:description/>
  <dc:language>en-US</dc:language>
  <cp:lastModifiedBy>NE</cp:lastModifiedBy>
  <dcterms:modified xsi:type="dcterms:W3CDTF">2003-12-12T00:02:31Z</dcterms:modified>
  <cp:revision>83</cp:revision>
  <dc:subject/>
  <dc:title>Object Tracking using Particle Filter</dc:title>
</cp:coreProperties>
</file>