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4FF-53C1-44E7-8F0D-CC8DB01B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9A1-1507-4480-9568-DAF068A9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697-FE71-4BB1-B8B2-D0A95F5F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CB1-B31F-4CCC-89A8-768D2BF9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BD81-4CCF-4D32-8165-8BA612A2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7CEF-0009-4C65-96C9-15BF011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154E-A53B-45AE-B4F8-1675DCD8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3FB6-AEF2-4012-8982-EB4ACCE8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7C06-42AA-45D9-BE36-48E13229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6EEB-984E-4EF4-BCF7-EBF3BBB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8815-CBD9-46E0-BFC3-7AD0BF7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586-6DE5-4F1E-A425-0D74481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4B6-E8A9-4187-8DDF-93DCCEE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4EDC-8C0D-46C2-BB37-FB5C7089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F697-DE27-41B0-BC47-551F7E38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3209-8130-49C2-9075-11EBB111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FB63-DB7A-48AF-985E-512076CD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8A7-6C4C-4F0C-8485-119C8B01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461D-CDA9-4D9F-A961-D17FC37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EFA-D30D-4051-BDA3-9D5A88A3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419-029B-428B-B4BF-A7C84F05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C1C-8D5D-453E-8727-6D3BC19E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476-DA9A-407F-AE8F-14D9407C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58F-45D4-4CF9-A547-3DFC0F7F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44B-BE42-41F6-BBB1-7253E13EA3E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119-1CA7-4BEC-8B3B-10F23E4258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caen.uiowa.edu/~sonka/ps-files/book-cover.tiff" TargetMode="External"/><Relationship Id="rId2" Type="http://schemas.openxmlformats.org/officeDocument/2006/relationships/hyperlink" Target="http://www.icaen.uiowa.edu/~sonka/ps-files/book-cover.tiff" TargetMode="External"/><Relationship Id="rId3" Type="http://schemas.openxmlformats.org/officeDocument/2006/relationships/hyperlink" Target="http://www.icaen.uiowa.edu/~sonka/ps-files/book-cover.tiff" TargetMode="External"/><Relationship Id="rId4" Type="http://schemas.openxmlformats.org/officeDocument/2006/relationships/hyperlink" Target="http://www.icaen.uiowa.edu/~sonka/ps-files/book-cover.tiff" TargetMode="External"/><Relationship Id="rId5" Type="http://schemas.openxmlformats.org/officeDocument/2006/relationships/hyperlink" Target="http://www.icaen.uiowa.edu/~sonka/ps-files/book-cover.tiff" TargetMode="External"/><Relationship Id="rId6" Type="http://schemas.openxmlformats.org/officeDocument/2006/relationships/hyperlink" Target="http://www.icaen.uiowa.edu/~sonka/ps-files/book-cover.tiff" TargetMode="External"/><Relationship Id="rId7" Type="http://schemas.openxmlformats.org/officeDocument/2006/relationships/hyperlink" Target="http://www.cs.berkeley.edu/~daf/bookpages/slides.html" TargetMode="External"/><Relationship Id="rId8" Type="http://schemas.openxmlformats.org/officeDocument/2006/relationships/hyperlink" Target="http://www.cs.berkeley.edu/~daf/bookpages/slides.html" TargetMode="External"/><Relationship Id="rId9" Type="http://schemas.openxmlformats.org/officeDocument/2006/relationships/hyperlink" Target="http://www.cs.berkeley.edu/~daf/bookpages/slides.html" TargetMode="External"/><Relationship Id="rId10" Type="http://schemas.openxmlformats.org/officeDocument/2006/relationships/hyperlink" Target="http://www.cs.berkeley.edu/~daf/bookpages/slides.html" TargetMode="External"/><Relationship Id="rId11" Type="http://schemas.openxmlformats.org/officeDocument/2006/relationships/hyperlink" Target="http://www.cs.berkeley.edu/~daf/bookpages/slides.html" TargetMode="External"/><Relationship Id="rId12" Type="http://schemas.openxmlformats.org/officeDocument/2006/relationships/hyperlink" Target="http://www.cs.berkeley.edu/~daf/bookpages/slides.html" TargetMode="External"/><Relationship Id="rId13" Type="http://schemas.openxmlformats.org/officeDocument/2006/relationships/hyperlink" Target="http://www.cs.berkeley.edu/~daf/bookpages/slides.html" TargetMode="External"/><Relationship Id="rId14" Type="http://schemas.openxmlformats.org/officeDocument/2006/relationships/hyperlink" Target="http://www.cs.berkeley.edu/~daf/bookpages/slides.html" TargetMode="External"/><Relationship Id="rId15" Type="http://schemas.openxmlformats.org/officeDocument/2006/relationships/hyperlink" Target="http://www.cs.berkeley.edu/~daf/bookpages/slides.html" TargetMode="External"/><Relationship Id="rId16" Type="http://schemas.openxmlformats.org/officeDocument/2006/relationships/hyperlink" Target="http://www.cs.berkeley.edu/~daf/bookpages/slides.html" TargetMode="External"/><Relationship Id="rId17" Type="http://schemas.openxmlformats.org/officeDocument/2006/relationships/hyperlink" Target="http://www.cs.berkeley.edu/~daf/bookpages/slides.html" TargetMode="External"/><Relationship Id="rId1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exture Detection </a:t>
            </a:r>
            <a:br>
              <a:rPr sz="4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Texture related cluster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601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ng Q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 Detection (1st Ver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410080" y="2209680"/>
            <a:ext cx="3446640" cy="4267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382920" cy="4191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25146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2895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2767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36576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4038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480060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56386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60199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0574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v. V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e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uition: reduce the effects of l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brate grey level with the texture sample before using P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191200" y="1990800"/>
            <a:ext cx="3538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 related image cluster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Color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-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exture information as fourth dim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of textures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re two textures are similar to each other, the closer their evaluation sh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3784320" cy="48006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700440" cy="4724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435320" y="5904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K-m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78480" y="579132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A-clustering (n-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284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ture Wor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is not only repeated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vity &amp; refr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ation of other texture 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s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s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with PCA: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Image Processing, Analysis, and Machine Vision_x000b_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Milan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Sonka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,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 Vaclav Hlavac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, and Roger Boy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99ff99"/>
                </a:solidFill>
                <a:latin typeface="Arial"/>
              </a:rPr>
              <a:t>199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8"/>
              </a:rPr>
              <a:t>cs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9"/>
              </a:rPr>
              <a:t>.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0"/>
              </a:rPr>
              <a:t>berkeley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1"/>
              </a:rPr>
              <a:t>.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2"/>
              </a:rPr>
              <a:t>edu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3"/>
              </a:rPr>
              <a:t>/~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4"/>
              </a:rPr>
              <a:t>daf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5"/>
              </a:rPr>
              <a:t>/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6"/>
              </a:rPr>
              <a:t>bookpages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7"/>
              </a:rPr>
              <a:t>/slide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99"/>
                </a:solidFill>
                <a:latin typeface="Arial"/>
              </a:rPr>
              <a:t>Merriam-Webster’s Collegiate Dictionary, </a:t>
            </a:r>
            <a:r>
              <a:rPr b="0" i="1" lang="en-US" sz="3200" spc="-1" strike="noStrike">
                <a:solidFill>
                  <a:srgbClr val="99ff99"/>
                </a:solidFill>
                <a:latin typeface="Arial"/>
              </a:rPr>
              <a:t>Tenth E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6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674440"/>
            <a:ext cx="82296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A based texture 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related image clus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“textures”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ster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hing composed of closely interwoven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ructure formed by the threads of a fab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ual or tactile surface characteristics and appearance of some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yma: L textura,  fr. Textus, (to wea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: grain, pattern of wood, water,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S Defin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ized ter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patt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 (repetition) of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mm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 De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similar enough to a set of textures samples would be of the same tex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we mean by saying: “similar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 (Cont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al Texture Descri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tial frequenc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ge frequ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itive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actic texture descri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pe chain gramm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ph gramm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 Represen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A (Principal Component Analysis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the samples (points) perpendicularly onto the axis of ellips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es the ellipsoid to be parallel to the coordinate a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ewer and more important  coordinates to represent the original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s of P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a few eigenvectors of covariance matr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 Representation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present textures using P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textures (6,7) we need to cons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exture samples (16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) as points in P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Eigen-textures generated by PCA transform as the textur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000320" cy="5334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901800" cy="90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648320" y="2666880"/>
            <a:ext cx="914400" cy="838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4648320" y="16765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64832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594360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58672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4648320" y="37339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809880" y="4343040"/>
            <a:ext cx="12956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29000" y="3123720"/>
            <a:ext cx="175248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447920" y="1066320"/>
            <a:ext cx="3657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743200" y="1980720"/>
            <a:ext cx="220968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371600" y="5562360"/>
            <a:ext cx="38098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09880" y="6172200"/>
            <a:ext cx="23623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09880" y="480060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62720" y="1295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762120"/>
            <a:ext cx="12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.97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5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03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0.0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0.0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 det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image to the texture representation (similarity 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detection based on P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A Trans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Eigen-images to Eigen-te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clidean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 Seg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7:31:14Z</dcterms:created>
  <dc:creator>Jing Qin</dc:creator>
  <dc:description/>
  <dc:language>en-US</dc:language>
  <cp:lastModifiedBy>c618119</cp:lastModifiedBy>
  <dcterms:modified xsi:type="dcterms:W3CDTF">2003-12-01T18:11:32Z</dcterms:modified>
  <cp:revision>20</cp:revision>
  <dc:subject/>
  <dc:title>Texture Detection  &amp;  Texture related clust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