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1C2-19C8-4FBE-9EEA-59B384EC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A2A-790B-415C-98D8-EAD829ED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96A-907E-4B28-9650-A27922E2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377-A4B0-4F79-99C4-2E992073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9B97-2760-4CFD-850E-2B18EF1C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EC9E-3F42-4B1D-BEF3-64CA5C0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852B-CC17-4192-AA75-C0B783CE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EEA4-EFC3-43E3-94E5-DF355D70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87B6-003C-4485-AE10-E6CC83D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DF57-2478-4B65-931A-B0589181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BFFA-6A1B-443F-A391-BC99770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1C8-1C3B-4E46-BFCD-6728FB7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AD1-BB88-455D-A7BB-44B9588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9493-FBF7-496A-AFA1-BD516DD9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19FB-A308-41D4-B2AB-40657833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75F1-9274-4F92-AFF6-C3263507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0C3B-9399-4F42-9353-7428CBF8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E7E-FA4A-4878-9AD1-E16F92C6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DCF-8676-4D28-ADE8-C6C9CE14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1F1-3C6D-496D-A6A2-BB886CD7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80B-B036-4954-AAB4-A7B77771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C69-1AE2-47C2-9C62-6A67620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68D-8F9E-4EDB-8FA6-A366D5B3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D6B-8014-4B81-B868-07084EB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5D42-C617-4F57-92C3-1681E44ED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4C76-2100-427A-AE38-050C578BB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m_clustering.m" TargetMode="External"/><Relationship Id="rId3" Type="http://schemas.openxmlformats.org/officeDocument/2006/relationships/hyperlink" Target="file:///DistView.m" TargetMode="External"/><Relationship Id="rId4" Type="http://schemas.openxmlformats.org/officeDocument/2006/relationships/hyperlink" Target="file:///cor.m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 Extrac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age Similar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6720" y="480024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IS 6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jay Kumar Yada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adient Meth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bel: Performs 2D spatial gradient measur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ny: Uses gradient to highlight regions with high spatial derivatives. If gradient of x is zero, depending upon the value of y edge direction would be either 0 or 9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bert: Uses 2x2 convolution matrix, one mask is simply rotated by 90. Respond maximally to edge running at 45 to pixel gr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witt: Similar to sobel. Strength of edge is defined by sum of square of two derivativ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943600" y="838080"/>
          <a:ext cx="26161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838080"/>
                    <a:ext cx="2616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placian Meth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ulates the second derivative of the image to find the zero crossing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also calculates the local variance and compare it with the threshold value. If threshold exceeds declare it as ed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’s an lowest order orientation independent operat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 Detection of 2-segment im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ge Detection of 4-segment im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our Map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asic idea is to trace closed contours at each slice of data and then connect between contours in adjacent slices using a mesh of triang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oured Ima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594360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666880" y="6172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o Level Contoured Im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age Match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gnition of the similar image in the target im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pproach considered is the crude or brute force method. The assumption is taken that the images do not differ all that much. A point is mapped onto the second image and a window is slided over the neighboring area to determine the resemblance of the corners. If the value passes a certain threshold the match is accep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the three Euclidean distances for the source image and the target image: Starting corner, Ending corner, Centroi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e all the three Euclidean distances for both source and targe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culate the correlation coefficient between the similar normalized vectors of source and targe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image is similar the plot of the output value should be linear and generate a pea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47920" y="4191120"/>
          <a:ext cx="594360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4191120"/>
                    <a:ext cx="59436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age Correl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172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ilar Image Different Segm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age Correal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2320" y="61722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te and Partial Im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419720" y="2361960"/>
            <a:ext cx="838080" cy="685800"/>
          </a:xfrm>
          <a:prstGeom prst="line">
            <a:avLst/>
          </a:prstGeom>
          <a:ln w="28440">
            <a:solidFill>
              <a:srgbClr val="ff5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1523880"/>
            <a:ext cx="3276360" cy="838440"/>
          </a:xfrm>
          <a:prstGeom prst="rect">
            <a:avLst/>
          </a:prstGeom>
          <a:solidFill>
            <a:srgbClr val="a3b2c1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orrelation of Start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data shows some similar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ment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ge Det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our Mapp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age Match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age Correl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7924680" cy="4495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0400" y="6172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imilar Im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80880"/>
            <a:ext cx="3047760" cy="1143000"/>
          </a:xfrm>
          <a:prstGeom prst="flowChartAlternateProcess">
            <a:avLst/>
          </a:prstGeom>
          <a:solidFill>
            <a:srgbClr val="a3b2c1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Starting and Ending 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near to match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may be because of th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posture of the imag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76920" y="2437920"/>
            <a:ext cx="457200" cy="304920"/>
          </a:xfrm>
          <a:prstGeom prst="line">
            <a:avLst/>
          </a:prstGeom>
          <a:ln w="28440">
            <a:solidFill>
              <a:srgbClr val="ff5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943600" y="2361960"/>
            <a:ext cx="380880" cy="533160"/>
          </a:xfrm>
          <a:prstGeom prst="line">
            <a:avLst/>
          </a:prstGeom>
          <a:ln w="28440">
            <a:solidFill>
              <a:srgbClr val="ff5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’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95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004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imilar Im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mentation: removes noise and cluster the useful data in one popul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ge Detection: Differentiate between the foreground and backgroun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age similarity is performed on the basis Euclidean correlation between the different Indices valu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ject Fi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m_cluste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input: Enter number of desired clusters in command window for source imag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ve the data of well defined edg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 to step 1 run the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_cluster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lgorithm for the target image and save the data extracted from edge detectio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Verdana"/>
              </a:rPr>
              <a:t>[a1,a2,a3] =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DistView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(edge);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input: saved data of the edge detection, output will be the Euclidean distance array for starting, ending and centroid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peat the same step for target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Verdana"/>
              </a:rPr>
              <a:t>[out1,out2,out3]=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or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Verdana"/>
              </a:rPr>
              <a:t>(s1,s2,s3,t1,t2,t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Input: All the Euclidean distance vector for source and target, output would be the correlation coefficient between source and target for starting, ending and centroid)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Image Processing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fael Gonzalez &amp; Richard Woo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nalysis of Simple k-means Clustering Algorithm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University of Maryland, January 200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our Detection Based on Non-classical Receptive Field Inhibition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EEE, Vol. 12, No. 7, July 200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tching and Retrieval Based on the Vocabulary and Grammar of Color Patterns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EEE, Vol. 9, No. 1, January 200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cture Sli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g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 of data is a method by which large sets of data is grouped into clusters of smaller sets of similar da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 techniques are also referred as clustering techniques. It attempts to find natural groups of components (or data) based on some similarit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352680"/>
            <a:ext cx="45720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352680"/>
            <a:ext cx="45720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352680"/>
            <a:ext cx="457200" cy="457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3352680"/>
            <a:ext cx="457200" cy="457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3352680"/>
            <a:ext cx="45720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3352680"/>
            <a:ext cx="45720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3352680"/>
            <a:ext cx="45720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352680"/>
            <a:ext cx="45720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3352680"/>
            <a:ext cx="45720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352680"/>
            <a:ext cx="45720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3352680"/>
            <a:ext cx="457200" cy="457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352680"/>
            <a:ext cx="457200" cy="457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mon Metr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15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between two points is taken as a common metric to assess the similarity among the components of a pop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057400" y="3505320"/>
          <a:ext cx="3886200" cy="12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3505320"/>
                    <a:ext cx="388620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12408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uclidean Metr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 of 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9807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archical methods – Minimal Spanning Tree Metho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hierarchical methods – K-means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-mean Cluster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ber of segmentations are provided as input to the algorith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ing upon the input value, number of points are chosen which are mutually farthest apar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component of the population is assigned to the respected cluster depending upon the minimum dis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entroid's position is recalculated on addition of each new compon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– 2 Segment Ima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3 Segmented Ima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019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dge Det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dge detection uses the difference in color between the background color and the foreground color. The end result is an outline of the bord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dge detection techniques are broadly classified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dient -Detects the edges by looking for the maxima and minima of the first derivat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placian -searches for zero-crossing in the second derivative.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7:59:13Z</dcterms:created>
  <dc:creator>Ajay Kumar Yadav</dc:creator>
  <dc:description/>
  <dc:language>en-US</dc:language>
  <cp:lastModifiedBy>Ajay Kumar Yadav</cp:lastModifiedBy>
  <dcterms:modified xsi:type="dcterms:W3CDTF">2003-12-04T06:28:32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