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9800-2E65-40EA-A69A-F6A84445E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approach is based on a simple observation: during 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r a dissolve, new intensity edges appear far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s of old edges. Similarly, old edges disappear f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location of new edges. We define an edge pixel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s far from an existing edge pixel as an entering 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, and an edge pixel that disappears far from an exis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pixel as an exiting edge pixel. By counting the ent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xiting edge pixels, we can detect and classify cuts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des and dissolves. By analyzing the spatial distribution 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ing and exiting edge pixels, we can detect and classif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common problem of global thresholding is that in practice it is impossible to find a single global threshold that works with all kinds of video material. Should be avo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se slide window, an example of adaptive thresh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some graph to explain windows siz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lassified based on transition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Qiang’s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lassified based on transition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ermy’s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y project only cover cuts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73D-BFF6-4201-8C29-1C9E3AD4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532-EEBB-46E1-A107-103EAD6B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746-FF4B-473D-928F-86FA1ECB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307-BC2F-49CC-BCB4-1C4B3D26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6A08-CF5F-4E1B-97F7-6BD71EEF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B9C7-90F2-455D-9F05-6BB87994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33E2-228A-419C-AA69-656BF8DB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F9EB-3BE9-4713-B24F-E2F54870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B9C2-B133-4DAF-B8CA-F8149C97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261A-93E4-42FF-99E2-188A90CB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3CAD-9F2C-48BF-98CE-8843B3CB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176-4FC9-4458-B9C0-E8E9C99A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D34E-2C8F-484A-9A72-971274EC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419F-E643-4323-9387-B3866596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DFB6-E926-4AF2-B22A-B34E2C8B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F9DF-B518-4772-8FF3-33EF8817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925E-C8BC-4376-8F48-F19B0EB8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676-C524-486E-AFEE-D1B4F9D1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B8E-009F-4CE4-9349-7DBF1AC0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860-15AC-4B58-8270-84A8E359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AE4-08CF-4741-A10C-BD99EF40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32A-4534-455E-8377-B649C7F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9CA-465C-4D7D-A22E-8E669ADC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59E-AF98-415E-90ED-AFE80E1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5A36-824C-411E-9CAD-1A654187D4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0FE2-0A26-4B37-8076-CA7E8D4B47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  <a:ea typeface="宋体"/>
              </a:rPr>
              <a:t>Video Shot Detec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IS 581 Cours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shan 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Exam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宋体"/>
              </a:rPr>
              <a:t>Features to Measure Dissimilar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tensity/color hist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133720"/>
                <a:ext cx="5257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57200" y="32004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Edges/contours: Based on edge change ratio (ECR). Le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be the number of edge pixels in frame n, and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the number of entering and exiting edge pixels in frames in frames n and n-1, respectively. The edge change ratio EC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between frames n-1 and n is defined as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057400" y="5486400"/>
                <a:ext cx="52578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Edges/contours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to define the entering and exiting edge pixel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and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ppose we have 2 binary image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. The entering edge pixel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宋体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re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ction of edge pixels in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a fix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r from the closest edge pixel in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Similarly the exiting edge pixels a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raction of edge pixels in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are farther than r away from the closest edge pix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2120" y="4419720"/>
            <a:ext cx="3886200" cy="1929600"/>
            <a:chOff x="762120" y="4419720"/>
            <a:chExt cx="3886200" cy="1929600"/>
          </a:xfrm>
        </p:grpSpPr>
        <p:sp>
          <p:nvSpPr>
            <p:cNvPr id="135" name=""/>
            <p:cNvSpPr/>
            <p:nvPr/>
          </p:nvSpPr>
          <p:spPr>
            <a:xfrm>
              <a:off x="2819520" y="4419720"/>
              <a:ext cx="1828800" cy="1447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8120" y="5181480"/>
              <a:ext cx="838080" cy="546120"/>
            </a:xfrm>
            <a:custGeom>
              <a:avLst/>
              <a:gdLst/>
              <a:ahLst/>
              <a:rect l="l" t="t" r="r" b="b"/>
              <a:pathLst>
                <a:path w="528" h="344">
                  <a:moveTo>
                    <a:pt x="0" y="8"/>
                  </a:moveTo>
                  <a:cubicBezTo>
                    <a:pt x="124" y="4"/>
                    <a:pt x="248" y="0"/>
                    <a:pt x="336" y="56"/>
                  </a:cubicBezTo>
                  <a:cubicBezTo>
                    <a:pt x="424" y="112"/>
                    <a:pt x="496" y="296"/>
                    <a:pt x="528" y="344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4648320"/>
              <a:ext cx="838080" cy="546120"/>
            </a:xfrm>
            <a:custGeom>
              <a:avLst/>
              <a:gdLst/>
              <a:ahLst/>
              <a:rect l="l" t="t" r="r" b="b"/>
              <a:pathLst>
                <a:path w="528" h="344">
                  <a:moveTo>
                    <a:pt x="0" y="8"/>
                  </a:moveTo>
                  <a:cubicBezTo>
                    <a:pt x="124" y="4"/>
                    <a:pt x="248" y="0"/>
                    <a:pt x="336" y="56"/>
                  </a:cubicBezTo>
                  <a:cubicBezTo>
                    <a:pt x="424" y="112"/>
                    <a:pt x="496" y="296"/>
                    <a:pt x="528" y="344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4419720"/>
              <a:ext cx="1828800" cy="1447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8120" y="4716360"/>
              <a:ext cx="838440" cy="546120"/>
            </a:xfrm>
            <a:custGeom>
              <a:avLst/>
              <a:gdLst/>
              <a:ahLst/>
              <a:rect l="l" t="t" r="r" b="b"/>
              <a:pathLst>
                <a:path w="528" h="344">
                  <a:moveTo>
                    <a:pt x="0" y="8"/>
                  </a:moveTo>
                  <a:cubicBezTo>
                    <a:pt x="124" y="4"/>
                    <a:pt x="248" y="0"/>
                    <a:pt x="336" y="56"/>
                  </a:cubicBezTo>
                  <a:cubicBezTo>
                    <a:pt x="424" y="112"/>
                    <a:pt x="496" y="296"/>
                    <a:pt x="528" y="34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1600" y="5943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n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5943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00600" y="4495680"/>
            <a:ext cx="3886200" cy="2005920"/>
            <a:chOff x="4800600" y="4495680"/>
            <a:chExt cx="3886200" cy="2005920"/>
          </a:xfrm>
        </p:grpSpPr>
        <p:sp>
          <p:nvSpPr>
            <p:cNvPr id="143" name=""/>
            <p:cNvSpPr/>
            <p:nvPr/>
          </p:nvSpPr>
          <p:spPr>
            <a:xfrm>
              <a:off x="4800600" y="4952880"/>
              <a:ext cx="1752480" cy="304920"/>
            </a:xfrm>
            <a:prstGeom prst="rightArrow">
              <a:avLst>
                <a:gd name="adj1" fmla="val 50000"/>
                <a:gd name="adj2" fmla="val 14368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05720" y="4495680"/>
              <a:ext cx="1828800" cy="1447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81720" y="4792680"/>
              <a:ext cx="838440" cy="546120"/>
            </a:xfrm>
            <a:custGeom>
              <a:avLst/>
              <a:gdLst/>
              <a:ahLst/>
              <a:rect l="l" t="t" r="r" b="b"/>
              <a:pathLst>
                <a:path w="528" h="344">
                  <a:moveTo>
                    <a:pt x="0" y="8"/>
                  </a:moveTo>
                  <a:cubicBezTo>
                    <a:pt x="124" y="4"/>
                    <a:pt x="248" y="0"/>
                    <a:pt x="336" y="56"/>
                  </a:cubicBezTo>
                  <a:cubicBezTo>
                    <a:pt x="424" y="112"/>
                    <a:pt x="496" y="296"/>
                    <a:pt x="528" y="34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34320" y="5257800"/>
              <a:ext cx="838080" cy="546120"/>
            </a:xfrm>
            <a:custGeom>
              <a:avLst/>
              <a:gdLst/>
              <a:ahLst/>
              <a:rect l="l" t="t" r="r" b="b"/>
              <a:pathLst>
                <a:path w="528" h="344">
                  <a:moveTo>
                    <a:pt x="0" y="8"/>
                  </a:moveTo>
                  <a:cubicBezTo>
                    <a:pt x="124" y="4"/>
                    <a:pt x="248" y="0"/>
                    <a:pt x="336" y="56"/>
                  </a:cubicBezTo>
                  <a:cubicBezTo>
                    <a:pt x="424" y="112"/>
                    <a:pt x="496" y="296"/>
                    <a:pt x="528" y="344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5200" y="4724280"/>
              <a:ext cx="838080" cy="546120"/>
            </a:xfrm>
            <a:custGeom>
              <a:avLst/>
              <a:gdLst/>
              <a:ahLst/>
              <a:rect l="l" t="t" r="r" b="b"/>
              <a:pathLst>
                <a:path w="528" h="344">
                  <a:moveTo>
                    <a:pt x="0" y="8"/>
                  </a:moveTo>
                  <a:cubicBezTo>
                    <a:pt x="124" y="4"/>
                    <a:pt x="248" y="0"/>
                    <a:pt x="336" y="56"/>
                  </a:cubicBezTo>
                  <a:cubicBezTo>
                    <a:pt x="424" y="112"/>
                    <a:pt x="496" y="296"/>
                    <a:pt x="528" y="344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5720" y="6095880"/>
              <a:ext cx="1981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mpose 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to 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n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267080" y="3733920"/>
            <a:ext cx="2286000" cy="380880"/>
          </a:xfrm>
          <a:prstGeom prst="borderCallout1">
            <a:avLst>
              <a:gd name="adj1" fmla="val 18750"/>
              <a:gd name="adj2" fmla="val -8333"/>
              <a:gd name="adj3" fmla="val 261666"/>
              <a:gd name="adj4" fmla="val 14770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Not entering 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6095880"/>
            <a:ext cx="2286000" cy="381240"/>
          </a:xfrm>
          <a:prstGeom prst="borderCallout1">
            <a:avLst>
              <a:gd name="adj1" fmla="val 18750"/>
              <a:gd name="adj2" fmla="val -8333"/>
              <a:gd name="adj3" fmla="val -203750"/>
              <a:gd name="adj4" fmla="val 137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Entering 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-27000"/>
          <a:ext cx="5087880" cy="68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508788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562360" y="914400"/>
            <a:ext cx="3276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imd1 = rgb2gray(im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Imd2 = rgb2gray(im2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% black background im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bw1 = edge(imd1, 'sobel'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bw2 = edge(imd2, 'sobel'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% invert image to white backgrou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ibw2 = 1-bw2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ibw1 = 1-bw1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s1 = size(find(bw1),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s2 = size(find(bw1),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% di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se = strel('square',3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dbw1 = imdilate(bw1, s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dbw2 = imdilate(bw2, s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imIn = dbw1 &amp; ibw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imOut = dbw2 &amp; ibw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ECRIn = size(find(imIn),1)/s2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ECROut = size(find(imOut),1)/s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ECR = max(ECRIn, ECROu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1219320"/>
            <a:ext cx="2362320" cy="1143000"/>
          </a:xfrm>
          <a:prstGeom prst="wedgeEllipseCallout">
            <a:avLst>
              <a:gd name="adj1" fmla="val -13509"/>
              <a:gd name="adj2" fmla="val 7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990720"/>
            <a:ext cx="1600200" cy="838080"/>
          </a:xfrm>
          <a:prstGeom prst="wedgeRoundRectCallout">
            <a:avLst>
              <a:gd name="adj1" fmla="val -58333"/>
              <a:gd name="adj2" fmla="val 173296"/>
              <a:gd name="adj3" fmla="val 16667"/>
            </a:avLst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We can set the distance r by specify the Dilate para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Threshol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Global thres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 hard cut is declared each time the discontinuity value f(n) surpasses a global threshol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aptive thres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 hard cut is detected based on the difference of the current feature values f(n) from its local neighborhood. Generally this kind of method has 2 criteria for a hard cut declar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- F(n) takes the maximum value inside the neighborh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- The difference between f(n) and its neighbors’ feature values is bigger than a given thresh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Experi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nput: Mr. Beans movie. (80*112, 2363 fram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ssimilarity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 Intensity hist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 Edge change ratio (EC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reshol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 Adaptive threshold based on statistics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reshol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847880" y="3352680"/>
                <a:ext cx="4533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f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ft</m:t>
                            </m:r>
                          </m:sub>
                        </m:sSub>
                      </m:e>
                    </m:rad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igh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ight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57200" y="16002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Use a slide window with size 2w+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 middle frame in the window is detected as a cut i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- Its feature value is the maximum in the windo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- Its feature value is greater t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886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where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s a parameter given a value of 5 in this experi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990720" y="2187720"/>
          <a:ext cx="716256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87720"/>
                    <a:ext cx="716256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3352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宋体"/>
              </a:rPr>
              <a:t>The statistics model is based on following assump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宋体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宋体"/>
              </a:rPr>
              <a:t>The dissimilarity feature values f(n) for a frame comes from two distributions: one for shot boundaries(S) and one for “not-a-shot-boundary”(N). In general, S has a considerably larger mean and standard deviation than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4267080"/>
            <a:ext cx="0" cy="91440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5410080"/>
            <a:ext cx="1067040" cy="304920"/>
          </a:xfrm>
          <a:prstGeom prst="wedgeRectCallout">
            <a:avLst>
              <a:gd name="adj1" fmla="val -86754"/>
              <a:gd name="adj2" fmla="val -121356"/>
            </a:avLst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Thresho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ty histogram dissimilarity + adaptive thres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Results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R dissimilarity + adaptive thres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Agend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hat’s shot dete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lassification of shot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lose look to hard cuts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Experiment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a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ompare the cut positions detected by these 2 methods in the following table. From the results we can see the cut detected by these 2 methods are pretty s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8080" y="3886200"/>
          <a:ext cx="7467480" cy="180324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914400"/>
                <a:gridCol w="914400"/>
                <a:gridCol w="914400"/>
                <a:gridCol w="914400"/>
                <a:gridCol w="8380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me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t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t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t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t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t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t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t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ty Histogr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11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20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21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11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20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21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80960" cy="1219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1380960" cy="12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657600" y="2514600"/>
            <a:ext cx="1380960" cy="1219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029200" y="2514600"/>
            <a:ext cx="1380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6400800" y="2514600"/>
            <a:ext cx="138096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914400" y="4191120"/>
            <a:ext cx="1380960" cy="1218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2286000" y="4191120"/>
            <a:ext cx="1380960" cy="1218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3666960" y="4191120"/>
            <a:ext cx="1381320" cy="1218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5038560" y="4191120"/>
            <a:ext cx="1381320" cy="1218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6419880" y="4191120"/>
            <a:ext cx="1380960" cy="1218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t detected in frame 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What’s Shot Det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roblem defini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– shot detection: given a video V consisting of n shots, find the beginning and end of each sh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lso known as shot boundary detection or transition det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t is fundamental to any kind of video analysis and video application since it enables segmentation of a video into its basic components: the sh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Classifi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ard cuts: A cut is an instantaneous transition from one scene to the next. There are no transitional frames between 2 sh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ades: A fade is a gradual transition between a scene and a constant image (fade-out) or between a constant image and a scene (fade-i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Fa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de, images have the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ties multiplied by some val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a fade-in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eases from 0 to 1, while during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de-o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s from 1 to 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Fade out - black"/>
          <p:cNvPicPr/>
          <p:nvPr/>
        </p:nvPicPr>
        <p:blipFill>
          <a:blip r:embed="rId1"/>
          <a:stretch/>
        </p:blipFill>
        <p:spPr>
          <a:xfrm>
            <a:off x="1905120" y="277812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Classifi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ard cuts: A cut is an instantaneous transition from one scene to the n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ades: A fade is a gradual transition between a scene and a constant image (fade-out) or between a constant image and a scene (fade-i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宋体"/>
              </a:rPr>
              <a:t>Dissol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: A dissolve is a gradual transition from one scene to another, in which the first scene fades out and the second scene fades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Dissol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mbination of fade-in and fade-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Dissolve"/>
          <p:cNvPicPr/>
          <p:nvPr/>
        </p:nvPicPr>
        <p:blipFill>
          <a:blip r:embed="rId1"/>
          <a:stretch/>
        </p:blipFill>
        <p:spPr>
          <a:xfrm>
            <a:off x="2057400" y="2514600"/>
            <a:ext cx="48006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Classifi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ard cuts: A cut is an instantaneous transition from one scene to the n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ades: A fade is a gradual transition between a scene and a constant image (fade-out) or between a constant image and a scene (fade-i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ssolves: A dissolve is a gradual transition from one scene to another, in which the first scene fades out and the second scene fades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宋体"/>
              </a:rPr>
              <a:t>Wi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common scene break is a wipe, in which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moves across the screen, with the new scene appear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ind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宋体"/>
              </a:rPr>
              <a:t>Schema of Cut Det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alculate a time series of discontinuity feature values f(n) for each frame. Suppose we use function d(x,y) to measure the dissimilarity between frame x and y. The discontinuity feature value for frame n is f(n)=d(n-1,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ick the cuts position from f(n) based on some threshold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3:08:57Z</dcterms:created>
  <dc:creator>Dylan</dc:creator>
  <dc:description/>
  <dc:language>en-US</dc:language>
  <cp:lastModifiedBy>hlin</cp:lastModifiedBy>
  <dcterms:modified xsi:type="dcterms:W3CDTF">2002-12-11T21:32:31Z</dcterms:modified>
  <cp:revision>44</cp:revision>
  <dc:subject/>
  <dc:title>Video Shot Detection</dc:title>
</cp:coreProperties>
</file>