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878-0FC5-4670-8A86-E2F53332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54E-2DFB-4AB0-B973-07BBCD82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26F-0DFA-4846-96A7-D7824310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7E7-87B2-4937-B560-EC7F2181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920E-F0C6-4E67-BEAA-7579C89D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D35C-0964-4F50-93E7-253E4519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7EBB-CE67-4652-8923-92CF0354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CE4C-F73F-4D48-8EDC-A6E86BA7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0625-C0CD-4DF1-B39A-A023E50E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009C-7C5D-43EA-98CB-6F0F5D11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7954-E3AC-4B86-B17F-84BC11A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B2C-E86D-4059-A4DB-276A692A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1A04-6A5F-4752-9B7C-77785D96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8F43-5C5B-40D0-AF88-51B30E53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3FAE-1125-4172-BC34-0CD9BE4E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D758-C9A5-4020-95A8-8691C894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2A3A-1898-4F1D-8A39-C1F382E5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F5A-2E14-4282-AF51-46B9643B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0C9-2AB1-41A9-B195-033720A9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FC8-5147-4354-A826-354416B0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A2F-11B4-49ED-BB1A-C42257BA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399-1D43-423B-901D-1236F31C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53D-A8C9-4AB5-B5B7-F6C543E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5C3-1CA5-4310-826F-F7ED8544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5649-DA68-449A-B9D6-62971743B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C7D1-5ED4-4615-8B29-C89779C1F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IS581 Presentation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Morphological Oper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d by: Xueyan 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vised by: Longin Jan Lateck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rosion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Erosion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rinks objects by etching away (eroding) their boundar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Performa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bcbcb"/>
                </a:solidFill>
                <a:latin typeface="Arial"/>
              </a:rPr>
              <a:t>1) If the origin of the structuring element coincides with a ‘0’ in the image, there is no change; move to the next pixe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bcbcb"/>
                </a:solidFill>
                <a:latin typeface="Arial"/>
              </a:rPr>
              <a:t>2) If the origin of the structuring element coincides with a ‘1’ in the image, and any of the ‘1’ pixels in the structuring element extend beyond the object (‘1’ pixels) in the image, then change the ‘1’ pixel in the image to a ‘0’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60958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ming ---eros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20574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Read imag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= imread(‘ford.tiff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('Name', 'original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show(I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create structuring elem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 11-by-11 squa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1 = strel('square',11);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Apply erosion opera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('Name', 'Erode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erode1 = imerode(I,se1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Show the result imag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plot(1,1,1), imshow(Ierode1), title('11x11 square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00600" y="3809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 (abov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6324480"/>
            <a:ext cx="396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Image after erosion (be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logo16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00640" cy="1904760"/>
          </a:xfrm>
          <a:prstGeom prst="rect">
            <a:avLst/>
          </a:prstGeom>
          <a:ln w="0">
            <a:noFill/>
          </a:ln>
        </p:spPr>
      </p:pic>
      <p:pic>
        <p:nvPicPr>
          <p:cNvPr id="128" name="erode-ford" descr=""/>
          <p:cNvPicPr/>
          <p:nvPr/>
        </p:nvPicPr>
        <p:blipFill>
          <a:blip r:embed="rId2"/>
          <a:stretch/>
        </p:blipFill>
        <p:spPr>
          <a:xfrm>
            <a:off x="4495680" y="4387680"/>
            <a:ext cx="4419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e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120" y="2285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pening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sts of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rosion followed by a dil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can be used to eliminate all pixels in regions that are to small to contain the structuring elem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is case the structuring element is often called a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prob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because it is probing the image looking for small objects to filter out of the im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60958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ming--- ope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56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Read imag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= imread(‘ford.tiff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('Name', 'original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show(I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create structuring elem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 11-by-11 squa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1 = strel('square',11);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Apply the open opra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('Name', 'Open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open1 = imopen(I,se1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Show the result imag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plot(1,1,1), imshow(Iopen1), title('11x11 square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24280" y="38862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 (abov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6324480"/>
            <a:ext cx="396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Image after opening (be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logo16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552920" cy="1830240"/>
          </a:xfrm>
          <a:prstGeom prst="rect">
            <a:avLst/>
          </a:prstGeom>
          <a:ln w="0">
            <a:noFill/>
          </a:ln>
        </p:spPr>
      </p:pic>
      <p:pic>
        <p:nvPicPr>
          <p:cNvPr id="137" name="open-ford" descr=""/>
          <p:cNvPicPr/>
          <p:nvPr/>
        </p:nvPicPr>
        <p:blipFill>
          <a:blip r:embed="rId2"/>
          <a:stretch/>
        </p:blipFill>
        <p:spPr>
          <a:xfrm>
            <a:off x="4419720" y="4267080"/>
            <a:ext cx="44956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os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120" y="22856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Closing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sts of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ilation followed by an ero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connects objects that are close to each other. It can be used to fill in holes and small gap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60958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ming ---clos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44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Read imag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= imread(‘ford.tiff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('Name', 'original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show(I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create structuring elem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 11-by-11 squa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1 = strel('square',11);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Apply close opera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('Name', ‘Close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close1 = imclose(I,se1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Show the result imag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plot(1,1,1), imshow(Iclose1), title('11x11 square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00600" y="3885840"/>
            <a:ext cx="4114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 (abov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6324480"/>
            <a:ext cx="396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Image after closing (be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logo16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324320" cy="1798920"/>
          </a:xfrm>
          <a:prstGeom prst="rect">
            <a:avLst/>
          </a:prstGeom>
          <a:ln w="0">
            <a:noFill/>
          </a:ln>
        </p:spPr>
      </p:pic>
      <p:pic>
        <p:nvPicPr>
          <p:cNvPr id="146" name="close-ford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44197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terative Morphological Oper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0574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an apply one or several operations to an image iteratively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putImage ---(apply an operation)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utputImage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-(apply the operation again)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utputImage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so on…..until get your desired im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22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terative operation of dilation (1)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38858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1 d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6324480"/>
            <a:ext cx="8610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5th dilat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inf di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logo16" descr=""/>
          <p:cNvPicPr/>
          <p:nvPr/>
        </p:nvPicPr>
        <p:blipFill>
          <a:blip r:embed="rId1"/>
          <a:stretch/>
        </p:blipFill>
        <p:spPr>
          <a:xfrm>
            <a:off x="533520" y="2403360"/>
            <a:ext cx="3809880" cy="1592280"/>
          </a:xfrm>
          <a:prstGeom prst="rect">
            <a:avLst/>
          </a:prstGeom>
          <a:ln w="0">
            <a:noFill/>
          </a:ln>
        </p:spPr>
      </p:pic>
      <p:pic>
        <p:nvPicPr>
          <p:cNvPr id="154" name="bwmorph-dilate-1-logo16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3810240" cy="1505160"/>
          </a:xfrm>
          <a:prstGeom prst="rect">
            <a:avLst/>
          </a:prstGeom>
          <a:ln w="0">
            <a:noFill/>
          </a:ln>
        </p:spPr>
      </p:pic>
      <p:pic>
        <p:nvPicPr>
          <p:cNvPr id="155" name="bwmorph-dilate-5-logo16" descr=""/>
          <p:cNvPicPr/>
          <p:nvPr/>
        </p:nvPicPr>
        <p:blipFill>
          <a:blip r:embed="rId3"/>
          <a:stretch/>
        </p:blipFill>
        <p:spPr>
          <a:xfrm>
            <a:off x="609480" y="4581360"/>
            <a:ext cx="3810240" cy="1505160"/>
          </a:xfrm>
          <a:prstGeom prst="rect">
            <a:avLst/>
          </a:prstGeom>
          <a:ln w="0">
            <a:noFill/>
          </a:ln>
        </p:spPr>
      </p:pic>
      <p:pic>
        <p:nvPicPr>
          <p:cNvPr id="156" name="bwmorph-dilate-Inf-logo16" descr=""/>
          <p:cNvPicPr/>
          <p:nvPr/>
        </p:nvPicPr>
        <p:blipFill>
          <a:blip r:embed="rId4"/>
          <a:stretch/>
        </p:blipFill>
        <p:spPr>
          <a:xfrm>
            <a:off x="4724280" y="4505400"/>
            <a:ext cx="38102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terative operation of dilation (2)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638520" cy="1892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38858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1 d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6248520"/>
            <a:ext cx="861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5th dilat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inf di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bwmorph-dilate-Inf-logo16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81024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bwmorph-dilate-1-logo19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4267080" cy="1725480"/>
          </a:xfrm>
          <a:prstGeom prst="rect">
            <a:avLst/>
          </a:prstGeom>
          <a:ln w="0">
            <a:noFill/>
          </a:ln>
        </p:spPr>
      </p:pic>
      <p:pic>
        <p:nvPicPr>
          <p:cNvPr id="163" name="bwmorph-dilate-5-logo19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3810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terative operation of erosion (1)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38858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1 ero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6324480"/>
            <a:ext cx="8610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5th eros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inf ero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logo16" descr=""/>
          <p:cNvPicPr/>
          <p:nvPr/>
        </p:nvPicPr>
        <p:blipFill>
          <a:blip r:embed="rId1"/>
          <a:stretch/>
        </p:blipFill>
        <p:spPr>
          <a:xfrm>
            <a:off x="533520" y="2403360"/>
            <a:ext cx="3809880" cy="1592280"/>
          </a:xfrm>
          <a:prstGeom prst="rect">
            <a:avLst/>
          </a:prstGeom>
          <a:ln w="0">
            <a:noFill/>
          </a:ln>
        </p:spPr>
      </p:pic>
      <p:pic>
        <p:nvPicPr>
          <p:cNvPr id="168" name="bwmorph-erode-Inf-logo16" descr=""/>
          <p:cNvPicPr/>
          <p:nvPr/>
        </p:nvPicPr>
        <p:blipFill>
          <a:blip r:embed="rId2"/>
          <a:stretch/>
        </p:blipFill>
        <p:spPr>
          <a:xfrm>
            <a:off x="4724280" y="4505400"/>
            <a:ext cx="3810240" cy="1504800"/>
          </a:xfrm>
          <a:prstGeom prst="rect">
            <a:avLst/>
          </a:prstGeom>
          <a:ln w="0">
            <a:noFill/>
          </a:ln>
        </p:spPr>
      </p:pic>
      <p:pic>
        <p:nvPicPr>
          <p:cNvPr id="169" name="bwmorph-erode-1-logo16" descr=""/>
          <p:cNvPicPr/>
          <p:nvPr/>
        </p:nvPicPr>
        <p:blipFill>
          <a:blip r:embed="rId3"/>
          <a:stretch/>
        </p:blipFill>
        <p:spPr>
          <a:xfrm>
            <a:off x="4800600" y="2438280"/>
            <a:ext cx="3809880" cy="1505160"/>
          </a:xfrm>
          <a:prstGeom prst="rect">
            <a:avLst/>
          </a:prstGeom>
          <a:ln w="0">
            <a:noFill/>
          </a:ln>
        </p:spPr>
      </p:pic>
      <p:pic>
        <p:nvPicPr>
          <p:cNvPr id="170" name="bwmorph-erode-5-logo16" descr=""/>
          <p:cNvPicPr/>
          <p:nvPr/>
        </p:nvPicPr>
        <p:blipFill>
          <a:blip r:embed="rId4"/>
          <a:stretch/>
        </p:blipFill>
        <p:spPr>
          <a:xfrm>
            <a:off x="609480" y="4581360"/>
            <a:ext cx="38102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esentation Outli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2742840"/>
            <a:ext cx="86108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inology and properties of Morphology Oper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e el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 morphological Princip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erative Morphological Operati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lab Programs and results images for each ope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terative operation of erosion (2)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638520" cy="1892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38858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1 ero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6324480"/>
            <a:ext cx="8610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5th eros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inf ero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bwmorph-erode-Inf-logo19" descr=""/>
          <p:cNvPicPr/>
          <p:nvPr/>
        </p:nvPicPr>
        <p:blipFill>
          <a:blip r:embed="rId2"/>
          <a:stretch/>
        </p:blipFill>
        <p:spPr>
          <a:xfrm>
            <a:off x="4572000" y="4495680"/>
            <a:ext cx="3809880" cy="1676520"/>
          </a:xfrm>
          <a:prstGeom prst="rect">
            <a:avLst/>
          </a:prstGeom>
          <a:ln w="0">
            <a:noFill/>
          </a:ln>
        </p:spPr>
      </p:pic>
      <p:pic>
        <p:nvPicPr>
          <p:cNvPr id="176" name="bwmorph-erode-1-logo19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380988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bwmorph-erode-5-logo19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3809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terative operation of opening (1)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38858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1 ope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6324480"/>
            <a:ext cx="8610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5th opening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inf open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logo16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809880" cy="1592280"/>
          </a:xfrm>
          <a:prstGeom prst="rect">
            <a:avLst/>
          </a:prstGeom>
          <a:ln w="0">
            <a:noFill/>
          </a:ln>
        </p:spPr>
      </p:pic>
      <p:pic>
        <p:nvPicPr>
          <p:cNvPr id="182" name="bwmorph-open-1-logo16" descr=""/>
          <p:cNvPicPr/>
          <p:nvPr/>
        </p:nvPicPr>
        <p:blipFill>
          <a:blip r:embed="rId2"/>
          <a:stretch/>
        </p:blipFill>
        <p:spPr>
          <a:xfrm>
            <a:off x="4800600" y="2219400"/>
            <a:ext cx="3809880" cy="1666800"/>
          </a:xfrm>
          <a:prstGeom prst="rect">
            <a:avLst/>
          </a:prstGeom>
          <a:ln w="0">
            <a:noFill/>
          </a:ln>
        </p:spPr>
      </p:pic>
      <p:pic>
        <p:nvPicPr>
          <p:cNvPr id="183" name="bwmorph-open-5-logo16" descr=""/>
          <p:cNvPicPr/>
          <p:nvPr/>
        </p:nvPicPr>
        <p:blipFill>
          <a:blip r:embed="rId3"/>
          <a:stretch/>
        </p:blipFill>
        <p:spPr>
          <a:xfrm>
            <a:off x="457200" y="4581360"/>
            <a:ext cx="3809880" cy="1505160"/>
          </a:xfrm>
          <a:prstGeom prst="rect">
            <a:avLst/>
          </a:prstGeom>
          <a:ln w="0">
            <a:noFill/>
          </a:ln>
        </p:spPr>
      </p:pic>
      <p:pic>
        <p:nvPicPr>
          <p:cNvPr id="184" name="bwmorph-open-Inf-logo16" descr=""/>
          <p:cNvPicPr/>
          <p:nvPr/>
        </p:nvPicPr>
        <p:blipFill>
          <a:blip r:embed="rId4"/>
          <a:stretch/>
        </p:blipFill>
        <p:spPr>
          <a:xfrm>
            <a:off x="4952880" y="4429080"/>
            <a:ext cx="38102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terative operation of opening (2)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638520" cy="18925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38858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1 ope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6324480"/>
            <a:ext cx="8610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5th opening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inf open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bwmorph-open-1-logo19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81024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bwmorph-open-5-logo19" descr=""/>
          <p:cNvPicPr/>
          <p:nvPr/>
        </p:nvPicPr>
        <p:blipFill>
          <a:blip r:embed="rId3"/>
          <a:stretch/>
        </p:blipFill>
        <p:spPr>
          <a:xfrm>
            <a:off x="457200" y="44956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191" name="bwmorph-open-Inf-logo19" descr=""/>
          <p:cNvPicPr/>
          <p:nvPr/>
        </p:nvPicPr>
        <p:blipFill>
          <a:blip r:embed="rId4"/>
          <a:stretch/>
        </p:blipFill>
        <p:spPr>
          <a:xfrm>
            <a:off x="4724280" y="4495680"/>
            <a:ext cx="38102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terative operation of closing (1)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38858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1 clos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6324480"/>
            <a:ext cx="8610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5th closing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inf closn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logo16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809880" cy="1592280"/>
          </a:xfrm>
          <a:prstGeom prst="rect">
            <a:avLst/>
          </a:prstGeom>
          <a:ln w="0">
            <a:noFill/>
          </a:ln>
        </p:spPr>
      </p:pic>
      <p:pic>
        <p:nvPicPr>
          <p:cNvPr id="196" name="bwmorph-close-1-logo16" descr=""/>
          <p:cNvPicPr/>
          <p:nvPr/>
        </p:nvPicPr>
        <p:blipFill>
          <a:blip r:embed="rId2"/>
          <a:stretch/>
        </p:blipFill>
        <p:spPr>
          <a:xfrm>
            <a:off x="4724280" y="2219400"/>
            <a:ext cx="3810240" cy="1504800"/>
          </a:xfrm>
          <a:prstGeom prst="rect">
            <a:avLst/>
          </a:prstGeom>
          <a:ln w="0">
            <a:noFill/>
          </a:ln>
        </p:spPr>
      </p:pic>
      <p:pic>
        <p:nvPicPr>
          <p:cNvPr id="197" name="bwmorph-close-5-logo16" descr=""/>
          <p:cNvPicPr/>
          <p:nvPr/>
        </p:nvPicPr>
        <p:blipFill>
          <a:blip r:embed="rId3"/>
          <a:stretch/>
        </p:blipFill>
        <p:spPr>
          <a:xfrm>
            <a:off x="609480" y="4505400"/>
            <a:ext cx="3810240" cy="1504800"/>
          </a:xfrm>
          <a:prstGeom prst="rect">
            <a:avLst/>
          </a:prstGeom>
          <a:ln w="0">
            <a:noFill/>
          </a:ln>
        </p:spPr>
      </p:pic>
      <p:pic>
        <p:nvPicPr>
          <p:cNvPr id="198" name="bwmorph-close-Inf-logo16" descr=""/>
          <p:cNvPicPr/>
          <p:nvPr/>
        </p:nvPicPr>
        <p:blipFill>
          <a:blip r:embed="rId4"/>
          <a:stretch/>
        </p:blipFill>
        <p:spPr>
          <a:xfrm>
            <a:off x="4724280" y="4581360"/>
            <a:ext cx="38102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terative operation of closing (2)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638520" cy="1892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38858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1 clos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6324480"/>
            <a:ext cx="8610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5th closing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after inf clos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bwmorph-close-1-logo19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3962520" cy="1828800"/>
          </a:xfrm>
          <a:prstGeom prst="rect">
            <a:avLst/>
          </a:prstGeom>
          <a:ln w="0">
            <a:noFill/>
          </a:ln>
        </p:spPr>
      </p:pic>
      <p:pic>
        <p:nvPicPr>
          <p:cNvPr id="204" name="bwmorph-close-5-logo19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3810240" cy="1828800"/>
          </a:xfrm>
          <a:prstGeom prst="rect">
            <a:avLst/>
          </a:prstGeom>
          <a:ln w="0">
            <a:noFill/>
          </a:ln>
        </p:spPr>
      </p:pic>
      <p:pic>
        <p:nvPicPr>
          <p:cNvPr id="205" name="bwmorph-clsoe-Inf-logo19" descr=""/>
          <p:cNvPicPr/>
          <p:nvPr/>
        </p:nvPicPr>
        <p:blipFill>
          <a:blip r:embed="rId4"/>
          <a:stretch/>
        </p:blipFill>
        <p:spPr>
          <a:xfrm>
            <a:off x="4495680" y="4495680"/>
            <a:ext cx="3886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orphological operations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 gray-level ima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7" name="316gray_pctmed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80880" y="2971800"/>
            <a:ext cx="2514600" cy="2490840"/>
          </a:xfrm>
          <a:prstGeom prst="rect">
            <a:avLst/>
          </a:prstGeom>
          <a:ln w="0">
            <a:noFill/>
          </a:ln>
        </p:spPr>
      </p:pic>
      <p:pic>
        <p:nvPicPr>
          <p:cNvPr id="208" name="316gray_open" descr=""/>
          <p:cNvPicPr/>
          <p:nvPr/>
        </p:nvPicPr>
        <p:blipFill>
          <a:blip r:embed="rId2"/>
          <a:stretch/>
        </p:blipFill>
        <p:spPr>
          <a:xfrm>
            <a:off x="3149640" y="2971800"/>
            <a:ext cx="2462040" cy="2514600"/>
          </a:xfrm>
          <a:prstGeom prst="rect">
            <a:avLst/>
          </a:prstGeom>
          <a:ln w="0">
            <a:noFill/>
          </a:ln>
        </p:spPr>
      </p:pic>
      <p:pic>
        <p:nvPicPr>
          <p:cNvPr id="209" name="316gray_close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6095880" y="29718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210" name="316gray_open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3200400" y="297180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0880" y="57150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63244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6172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7913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Original imag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Image after di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Image after ero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7150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63943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58672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y programming fi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phor.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wmorhpr.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are more interested in this topic, you can try to play the source code with a updated Matlab. I’m sure a lot of fun there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00ccff"/>
                </a:solidFill>
                <a:latin typeface="Monotype Corsiva"/>
              </a:rPr>
              <a:t>Thank you !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---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Morphology Operation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Termin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ph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broad set of image processing operations that process images based on shap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phological operations apply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ructuring el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an input image, creating an output image of the same s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Prope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phological operations simplify images, and quantify and preserve the main shape characteristics of ob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47712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9880" bIns="298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our morphological princip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220932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Dilation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Eros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Open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Clo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47712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9880" bIns="298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514600"/>
            <a:ext cx="68580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lationship of four oper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ilation and Ero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the basic operations, can be combined into more complex sequenc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osion and dilation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t invertib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perations ---if an image is eroded and dilated, the original image is not re-obtain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mbination of Erosion and dil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nstitutes new operations ----opening and closing. They are the most useful morphological filte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ructuring el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phological operations can be customized for an application by the proper selection of the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structuring ele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ich determines exactly how the object will be dilated or erod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lab function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strel(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create many kinds of structuring elemen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h-shaped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amond-shaped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l-shaped,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u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t linear with length L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bitrary flat or a nonflat with the specified neighborho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47712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9880" bIns="298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514600"/>
            <a:ext cx="68580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ilation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56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Dil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llows objects to expand, then potentially filling in small holes and connecting disjoint ob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Performa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ing the structuring element on the image and sliding it across the im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bcbcb"/>
                </a:solidFill>
                <a:latin typeface="Arial"/>
              </a:rPr>
              <a:t>1) If the origin of the structuring element coincides with a ‘0’ in the image, there is no change; move to the next pixel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bcbcb"/>
                </a:solidFill>
                <a:latin typeface="Arial"/>
              </a:rPr>
              <a:t>2) If the origin of the structuring element coincides with a ‘1’ in the images, perform the OR logic operation on all pixels within the structuring el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22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3244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y input imag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logo16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3809880" cy="1504800"/>
          </a:xfrm>
          <a:prstGeom prst="rect">
            <a:avLst/>
          </a:prstGeom>
          <a:ln w="0">
            <a:noFill/>
          </a:ln>
        </p:spPr>
      </p:pic>
      <p:pic>
        <p:nvPicPr>
          <p:cNvPr id="113" name="logo19" descr=""/>
          <p:cNvPicPr/>
          <p:nvPr/>
        </p:nvPicPr>
        <p:blipFill>
          <a:blip r:embed="rId2"/>
          <a:stretch/>
        </p:blipFill>
        <p:spPr>
          <a:xfrm>
            <a:off x="2209680" y="4343400"/>
            <a:ext cx="3733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lab programming ---dil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Read imag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= imread(‘ford.tiff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('Name', 'original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show(I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create structuring elem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 11-by-11 squa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1 = strel('square',11);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Apply dilation opera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('Name', 'Dilate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ilate1 = imdilate(I,se1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Show the result imag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plot(1,1,1), imshow(Idilate1), title('11x11 square'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76920" y="38098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original image (abov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6324480"/>
            <a:ext cx="396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Image after dilation (be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logo16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7660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dilate-ford" descr=""/>
          <p:cNvPicPr/>
          <p:nvPr/>
        </p:nvPicPr>
        <p:blipFill>
          <a:blip r:embed="rId2"/>
          <a:stretch/>
        </p:blipFill>
        <p:spPr>
          <a:xfrm>
            <a:off x="4419720" y="4309920"/>
            <a:ext cx="43434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52:50Z</dcterms:created>
  <dc:creator>Xueyan Li</dc:creator>
  <dc:description/>
  <dc:language>en-US</dc:language>
  <cp:lastModifiedBy>Tao Duan</cp:lastModifiedBy>
  <dcterms:modified xsi:type="dcterms:W3CDTF">2002-10-21T18:29:23Z</dcterms:modified>
  <cp:revision>275</cp:revision>
  <dc:subject/>
  <dc:title>Project Overview</dc:title>
</cp:coreProperties>
</file>