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4.png" ContentType="image/png"/>
  <Override PartName="/ppt/media/image3.png" ContentType="image/png"/>
  <Override PartName="/ppt/media/arrow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6.png" ContentType="image/png"/>
  <Override PartName="/ppt/media/bomb.wav" ContentType="audio/x-wav"/>
  <Override PartName="/ppt/media/hammer.wav" ContentType="audio/x-wav"/>
  <Override PartName="/ppt/media/image13.png" ContentType="image/png"/>
  <Override PartName="/ppt/media/image5.png" ContentType="image/png"/>
  <Override PartName="/ppt/media/image2.png" ContentType="image/png"/>
  <Override PartName="/ppt/media/breeze.wav" ContentType="audio/x-wav"/>
  <Override PartName="/ppt/media/image10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6D2-AB59-4E70-8E15-5E8DEEB8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259-B454-40B1-8377-CE415EE9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B93-F251-4FFD-848E-A3EE7A53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68E-6794-4CBB-B4E6-0BCAE298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50448-5D0A-47CF-9267-106CF3DA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B7F64-4B66-49C7-95AF-D7F4CC5C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AA0D2-93B1-4509-8A31-2B6C6C90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C7D03-12B1-4FE0-A61D-CF8F7869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4DE00-81EA-493E-96B4-182893C2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89AAE-DA53-4C5B-A564-DF985B33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9F992-D603-465B-9E66-40884D9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EDE-7C4D-492B-976B-BC720F9A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26794-7010-463E-9A5B-43DFDDF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25811-1CC4-47D7-AA4D-8AE4D17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A6CBE-6E67-4E4E-8BD1-692D0ED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50935-9737-4E97-BEB2-641AB9E6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4730C-82CA-4C87-AEE3-99127A97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F06-09DA-43DC-BA08-77EC0FA7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513-4149-48CA-9FB5-489DD9B4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192-6362-485A-A14E-0A5921F1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5AC-2F4C-4B45-AC13-240FFD6E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A3A-2F55-4EAE-B72A-1DFD6C21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779-8D27-4E14-8C69-7590CB7F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70A-BDE4-45A3-8EA3-8248B78A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2D78-62C9-4D2E-860F-DB16920A6E4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A8FF-6DAD-45E8-884D-F92FEAD6CD6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hyperlink" Target="-1,-1,NEXT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-1,-1,PREV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-1,-1,NEXT" TargetMode="External"/><Relationship Id="rId3" Type="http://schemas.openxmlformats.org/officeDocument/2006/relationships/hyperlink" Target="BestMatches.xls" TargetMode="External"/><Relationship Id="rId4" Type="http://schemas.openxmlformats.org/officeDocument/2006/relationships/hyperlink" Target="272,16,Slide 16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hyperlink" Target="-1,-1,PREV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18,Slide 18" TargetMode="External"/><Relationship Id="rId3" Type="http://schemas.openxmlformats.org/officeDocument/2006/relationships/hyperlink" Target="276,18,Slide 18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hyperlink" Target="-1,-1,PREV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80,23,False Positives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281,24,False Positives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StrangeBehavior.doc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bomb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hyperlink" Target="Plateau.xls" TargetMode="External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urn angle function and elastic time series matching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Presented by: Wang , Xinzh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dvisor: Dr. Longin Jan Latec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21844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ndmark sequence matc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52336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 I : Align the highest peak of the query with every peak of the object, and then align other peaks and valleys of the query according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500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 II: Calculate the Euclidean distance between the peaks/valleys of query and object. As we move query along the object, we have Euclidean distance for each alignment. A smallest Euclidean distance identifies the optimized align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5013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 III: In the optimized alignment, we introduce a penalty distance if either query or object has extra peaks or valle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916360" y="3500280"/>
          <a:ext cx="3190680" cy="25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500280"/>
                    <a:ext cx="31906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5040" y="2438280"/>
            <a:ext cx="852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xample:  Aligning query peaks and valleys with obj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one optimized alignmen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1052640"/>
            <a:ext cx="8218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ndmark sequence m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4653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uery’s pea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 valle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52280" y="515772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doub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556000" y="4797000"/>
            <a:ext cx="1439640" cy="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5084640"/>
            <a:ext cx="115272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24000" y="443664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4360" y="1052640"/>
            <a:ext cx="8218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ndmark sequence m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9240" y="263700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example : query has extra peaks and vall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987640" y="3429000"/>
          <a:ext cx="3097080" cy="245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3429000"/>
                    <a:ext cx="309708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656840" y="5975280"/>
            <a:ext cx="68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095880"/>
            <a:ext cx="217440" cy="142920"/>
          </a:xfrm>
          <a:custGeom>
            <a:avLst/>
            <a:gdLst>
              <a:gd name="textAreaLeft" fmla="*/ 29160 w 217440"/>
              <a:gd name="textAreaRight" fmla="*/ 188280 w 217440"/>
              <a:gd name="textAreaTop" fmla="*/ 24840 h 142920"/>
              <a:gd name="textAreaBottom" fmla="*/ 1036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42591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alty d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1052640"/>
            <a:ext cx="8218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ndmark sequence ma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81952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the query has extra peaks/valleys, a penalty distance is added to the Euclidean distance between the query and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3716280"/>
            <a:ext cx="68407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enalty distance is calculated by the sum of Euclidean distances between the unmatched peaks/valleys to the closest matched peaks/valleys in the query. 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ee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4869000"/>
            <a:ext cx="693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instead the object has extra peaks/valleys, a penalty distance is calculated by the sum of Euclidean distances between the unmatched peaks/valleys to the closest matched peaks/valleys in th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y: The first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objec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in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052640"/>
            <a:ext cx="8218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experimental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2708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arch for 40 nearest neighbors in the whole data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400536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op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40 match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9417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Retrieval Ra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: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68360" y="2133720"/>
          <a:ext cx="8351640" cy="23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133720"/>
                    <a:ext cx="83516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941240" y="5589720"/>
            <a:ext cx="68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740720" y="5734080"/>
            <a:ext cx="217440" cy="142920"/>
          </a:xfrm>
          <a:custGeom>
            <a:avLst/>
            <a:gdLst>
              <a:gd name="textAreaLeft" fmla="*/ 29160 w 217440"/>
              <a:gd name="textAreaRight" fmla="*/ 188280 w 217440"/>
              <a:gd name="textAreaTop" fmla="*/ 24840 h 142920"/>
              <a:gd name="textAreaBottom" fmla="*/ 1036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4360" y="1052640"/>
            <a:ext cx="8218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2666880"/>
            <a:ext cx="842472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trieval R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we have the prior knowledge about those objects within the same class as the query object, we can define the retrieval rate of matching 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ievalRate = N /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N: number of objects in the top 40 matches that belong to the same class as the query obj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920" y="2747880"/>
            <a:ext cx="12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11280" y="620640"/>
            <a:ext cx="8218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 Match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-- In a primitive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55640" y="285264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manually select a significant part of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an objec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, for example the leaves of an apple, and proceed sub-sequence matching and retriev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4365720"/>
            <a:ext cx="81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our query part has only three peaks and three valleys, we define them as LeftMostPeak/Valley, MiddlePeak/Valley, RightMostPeak/Valle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See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468360" y="2133720"/>
          <a:ext cx="8351640" cy="23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133720"/>
                    <a:ext cx="83516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7941240" y="5589720"/>
            <a:ext cx="689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40720" y="5734080"/>
            <a:ext cx="217440" cy="142920"/>
          </a:xfrm>
          <a:custGeom>
            <a:avLst/>
            <a:gdLst>
              <a:gd name="textAreaLeft" fmla="*/ 29160 w 217440"/>
              <a:gd name="textAreaRight" fmla="*/ 188280 w 217440"/>
              <a:gd name="textAreaTop" fmla="*/ 24840 h 142920"/>
              <a:gd name="textAreaBottom" fmla="*/ 1036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0520" y="117144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ftMostPeak/Va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78760" y="1268280"/>
            <a:ext cx="27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ghtMostPeak/Va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08840" y="501336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ddlePeak/Va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08720" y="1628640"/>
            <a:ext cx="1224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08720" y="1628640"/>
            <a:ext cx="107928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932360" y="3644640"/>
            <a:ext cx="1944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32360" y="3933360"/>
            <a:ext cx="20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948360" y="1628640"/>
            <a:ext cx="21600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093080" y="1628640"/>
            <a:ext cx="7128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620244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 Matc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699444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tching Scope in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54080" y="5734080"/>
            <a:ext cx="33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losest peak/va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the LeftMostPeak/Va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19520" y="5805360"/>
            <a:ext cx="33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losest peak/va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the LeftMostPeak/Va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268360" y="2708280"/>
          <a:ext cx="3456000" cy="27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2708280"/>
                    <a:ext cx="34560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 flipV="1">
            <a:off x="2340000" y="4581360"/>
            <a:ext cx="576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40000" y="501336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492360" y="4076280"/>
            <a:ext cx="223200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3634920" y="4508280"/>
            <a:ext cx="2089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291960"/>
            <a:ext cx="7643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1773360"/>
            <a:ext cx="255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48560" y="2421000"/>
            <a:ext cx="412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angle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40280" y="3141720"/>
            <a:ext cx="444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series m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3860640"/>
            <a:ext cx="227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1440" y="4724280"/>
            <a:ext cx="267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000" y="2707920"/>
            <a:ext cx="8218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 I : Calculate the Euclidean distance between the peaks/valleys of the query part and object part. Only peaks/valleys fall between the matching scope in the object are considered for matching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3860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 II: As we move query part along the object, we have Euclidean distance for each alignment. A smallest Euclidean distance identifies the optimized align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508464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 III: In the optimized alignment, we introduce a penalty distance if either query part or object part has extra peaks or valleys. The penalty distance calculation would be the same as previous def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10920" y="1125360"/>
            <a:ext cx="620244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 Matc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y part: The first object in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052640"/>
            <a:ext cx="8218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experimental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2708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arch for 40 nearest neighbors in the whole data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400536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rieval Rate : 6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49417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False 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lse Posi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3600360" cy="28461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586160" y="2276640"/>
            <a:ext cx="104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Obj6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9640" y="1773360"/>
            <a:ext cx="2881440" cy="1079280"/>
          </a:xfrm>
          <a:prstGeom prst="wedgeEllipseCallout">
            <a:avLst>
              <a:gd name="adj1" fmla="val -52425"/>
              <a:gd name="adj2" fmla="val 60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e pretty early in the 40 match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lse Posi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90560" y="3284640"/>
          <a:ext cx="8353440" cy="23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0560" y="3284640"/>
                    <a:ext cx="835344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484360" y="2205000"/>
            <a:ext cx="1727280" cy="1224000"/>
          </a:xfrm>
          <a:prstGeom prst="wedgeEllipseCallout">
            <a:avLst>
              <a:gd name="adj1" fmla="val -72240"/>
              <a:gd name="adj2" fmla="val 1265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s like the leaf of an app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’s feasible to transform image contour data to time sequ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31417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7640" y="3500280"/>
            <a:ext cx="849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mark sequence can capture the important features of time series. Matching based on it is applicable and promis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508464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 Matching brings good result by submitting very limited query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8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er of Matching (Eliminate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rossove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611280" y="328464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ation of global matching with part match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437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y the technique on the whole data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700360" y="1989000"/>
            <a:ext cx="3664080" cy="26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-0.47604 0.48509 L 0.30347 0.00671 E">
                                      <p:cBhvr>
                                        <p:cTn id="52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6920" y="907920"/>
            <a:ext cx="5699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4210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set:  1400 images (70 classes * 20 objec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4221000"/>
            <a:ext cx="446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00 land mark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313992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33195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ata Pre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292640"/>
            <a:ext cx="82296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46195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213336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58920" y="2924280"/>
          <a:ext cx="7416720" cy="20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2924280"/>
                    <a:ext cx="741672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11280" y="5695920"/>
            <a:ext cx="204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riginal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5400" y="576900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ime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74280" y="56959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ndmark seq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0" y="51940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7235640" y="5192640"/>
            <a:ext cx="360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692360" y="5121360"/>
            <a:ext cx="3585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125000"/>
            <a:ext cx="3610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18920" y="2060640"/>
            <a:ext cx="45464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 sequence mat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3640" y="2708280"/>
          <a:ext cx="180036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08280"/>
                    <a:ext cx="1800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292720" y="2637000"/>
          <a:ext cx="2085840" cy="162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2637000"/>
                    <a:ext cx="2085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63640" y="4653000"/>
          <a:ext cx="1790640" cy="16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63640" y="4653000"/>
                    <a:ext cx="17906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292720" y="4653000"/>
          <a:ext cx="2085840" cy="1628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92720" y="4653000"/>
                    <a:ext cx="2085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708360" y="4292640"/>
            <a:ext cx="1440000" cy="360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7400" y="4149720"/>
            <a:ext cx="11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p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12280" y="414972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qu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971640" y="3573360"/>
            <a:ext cx="647640" cy="50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4797360"/>
            <a:ext cx="647640" cy="50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24360" y="3428640"/>
            <a:ext cx="86364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596360" y="4941720"/>
            <a:ext cx="792000" cy="57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 defini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2637000"/>
            <a:ext cx="6335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n a query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a distance function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earest neighbors of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y calcul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stance using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our case,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4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\begin{displaymath}d(a,b)=\sqrt{(x_1-y_1)^2+(x_2-y_2)^2+\cdots+(x_n-y_n)^2}.\end{displaymath}"/>
          <p:cNvPicPr/>
          <p:nvPr/>
        </p:nvPicPr>
        <p:blipFill>
          <a:blip r:embed="rId2"/>
          <a:stretch/>
        </p:blipFill>
        <p:spPr>
          <a:xfrm>
            <a:off x="1979640" y="4941720"/>
            <a:ext cx="6121440" cy="505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846440" y="436572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nce function d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69640" y="5661000"/>
            <a:ext cx="176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a = (x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,x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, ...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5661000"/>
            <a:ext cx="195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b = (y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,y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, ...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ngent space repres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605016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pe description in tangent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42920" y="3213000"/>
          <a:ext cx="6193080" cy="182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>
                    <a:alphaModFix amt="0"/>
                  </a:blip>
                  <a:stretch/>
                </p:blipFill>
                <p:spPr>
                  <a:xfrm>
                    <a:off x="1042920" y="3213000"/>
                    <a:ext cx="619308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71640" y="5877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mplified cont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5805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ep function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79640" y="5300640"/>
            <a:ext cx="504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516360" y="530064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3080" y="2133720"/>
            <a:ext cx="1871640" cy="863640"/>
          </a:xfrm>
          <a:prstGeom prst="cloudCallout">
            <a:avLst>
              <a:gd name="adj1" fmla="val -44912"/>
              <a:gd name="adj2" fmla="val 7003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5843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urn angle fun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68515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 to tangent space re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987640" y="2060640"/>
            <a:ext cx="2879640" cy="2304720"/>
            <a:chOff x="2987640" y="2060640"/>
            <a:chExt cx="2879640" cy="2304720"/>
          </a:xfrm>
        </p:grpSpPr>
        <p:grpSp>
          <p:nvGrpSpPr>
            <p:cNvPr id="144" name=""/>
            <p:cNvGrpSpPr/>
            <p:nvPr/>
          </p:nvGrpSpPr>
          <p:grpSpPr>
            <a:xfrm>
              <a:off x="2987640" y="2060640"/>
              <a:ext cx="2879640" cy="2304720"/>
              <a:chOff x="2987640" y="2060640"/>
              <a:chExt cx="2879640" cy="230472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3402000" y="2521440"/>
                <a:ext cx="523440" cy="460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03840" y="2521440"/>
                <a:ext cx="785160" cy="345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4689000" y="2521440"/>
                <a:ext cx="654480" cy="347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43840" y="2521440"/>
                <a:ext cx="0" cy="1152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772440" y="3674160"/>
                <a:ext cx="1570680" cy="23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3380400" y="2982240"/>
                <a:ext cx="392400" cy="921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5343840" y="2060640"/>
                <a:ext cx="0" cy="460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296600" y="2867400"/>
                <a:ext cx="392400" cy="23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3402000" y="2291040"/>
                <a:ext cx="523440" cy="23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987640" y="2982600"/>
                <a:ext cx="392760" cy="345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3772440" y="3904560"/>
                <a:ext cx="130680" cy="4608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343840" y="3558960"/>
                <a:ext cx="523440" cy="11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43840" y="3290040"/>
                <a:ext cx="392400" cy="268560"/>
              </a:xfrm>
              <a:custGeom>
                <a:avLst/>
                <a:gdLst/>
                <a:ahLst/>
                <a:rect l="l" t="t" r="r" b="b"/>
                <a:pathLst>
                  <a:path w="540" h="364">
                    <a:moveTo>
                      <a:pt x="0" y="52"/>
                    </a:moveTo>
                    <a:cubicBezTo>
                      <a:pt x="135" y="26"/>
                      <a:pt x="270" y="0"/>
                      <a:pt x="360" y="52"/>
                    </a:cubicBezTo>
                    <a:cubicBezTo>
                      <a:pt x="450" y="104"/>
                      <a:pt x="510" y="312"/>
                      <a:pt x="540" y="364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38200" y="2291040"/>
                <a:ext cx="305280" cy="345600"/>
              </a:xfrm>
              <a:custGeom>
                <a:avLst/>
                <a:gdLst/>
                <a:ahLst/>
                <a:rect l="l" t="t" r="r" b="b"/>
                <a:pathLst>
                  <a:path w="420" h="468">
                    <a:moveTo>
                      <a:pt x="420" y="0"/>
                    </a:moveTo>
                    <a:cubicBezTo>
                      <a:pt x="270" y="39"/>
                      <a:pt x="120" y="78"/>
                      <a:pt x="60" y="156"/>
                    </a:cubicBezTo>
                    <a:cubicBezTo>
                      <a:pt x="0" y="234"/>
                      <a:pt x="60" y="416"/>
                      <a:pt x="60" y="468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81880" y="3849120"/>
                <a:ext cx="311040" cy="410040"/>
              </a:xfrm>
              <a:custGeom>
                <a:avLst/>
                <a:gdLst/>
                <a:ahLst/>
                <a:rect l="l" t="t" r="r" b="b"/>
                <a:pathLst>
                  <a:path w="428" h="555">
                    <a:moveTo>
                      <a:pt x="420" y="0"/>
                    </a:moveTo>
                    <a:cubicBezTo>
                      <a:pt x="390" y="90"/>
                      <a:pt x="428" y="217"/>
                      <a:pt x="375" y="285"/>
                    </a:cubicBezTo>
                    <a:cubicBezTo>
                      <a:pt x="349" y="318"/>
                      <a:pt x="315" y="345"/>
                      <a:pt x="285" y="375"/>
                    </a:cubicBezTo>
                    <a:cubicBezTo>
                      <a:pt x="270" y="390"/>
                      <a:pt x="258" y="408"/>
                      <a:pt x="240" y="420"/>
                    </a:cubicBezTo>
                    <a:cubicBezTo>
                      <a:pt x="210" y="440"/>
                      <a:pt x="175" y="455"/>
                      <a:pt x="150" y="480"/>
                    </a:cubicBezTo>
                    <a:cubicBezTo>
                      <a:pt x="135" y="495"/>
                      <a:pt x="123" y="513"/>
                      <a:pt x="105" y="525"/>
                    </a:cubicBezTo>
                    <a:cubicBezTo>
                      <a:pt x="92" y="534"/>
                      <a:pt x="75" y="536"/>
                      <a:pt x="60" y="540"/>
                    </a:cubicBezTo>
                    <a:cubicBezTo>
                      <a:pt x="40" y="546"/>
                      <a:pt x="0" y="555"/>
                      <a:pt x="0" y="555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29120" y="3217680"/>
                <a:ext cx="414360" cy="233280"/>
              </a:xfrm>
              <a:custGeom>
                <a:avLst/>
                <a:gdLst/>
                <a:ahLst/>
                <a:rect l="l" t="t" r="r" b="b"/>
                <a:pathLst>
                  <a:path w="570" h="316">
                    <a:moveTo>
                      <a:pt x="0" y="0"/>
                    </a:moveTo>
                    <a:cubicBezTo>
                      <a:pt x="10" y="30"/>
                      <a:pt x="20" y="60"/>
                      <a:pt x="30" y="90"/>
                    </a:cubicBezTo>
                    <a:cubicBezTo>
                      <a:pt x="56" y="169"/>
                      <a:pt x="32" y="126"/>
                      <a:pt x="135" y="195"/>
                    </a:cubicBezTo>
                    <a:cubicBezTo>
                      <a:pt x="150" y="205"/>
                      <a:pt x="165" y="215"/>
                      <a:pt x="180" y="225"/>
                    </a:cubicBezTo>
                    <a:cubicBezTo>
                      <a:pt x="180" y="225"/>
                      <a:pt x="293" y="262"/>
                      <a:pt x="315" y="270"/>
                    </a:cubicBezTo>
                    <a:cubicBezTo>
                      <a:pt x="330" y="275"/>
                      <a:pt x="360" y="285"/>
                      <a:pt x="360" y="285"/>
                    </a:cubicBezTo>
                    <a:cubicBezTo>
                      <a:pt x="562" y="269"/>
                      <a:pt x="509" y="316"/>
                      <a:pt x="570" y="255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12800" y="2364120"/>
                <a:ext cx="152640" cy="542880"/>
              </a:xfrm>
              <a:custGeom>
                <a:avLst/>
                <a:gdLst/>
                <a:ahLst/>
                <a:rect l="l" t="t" r="r" b="b"/>
                <a:pathLst>
                  <a:path w="210" h="735">
                    <a:moveTo>
                      <a:pt x="210" y="0"/>
                    </a:moveTo>
                    <a:cubicBezTo>
                      <a:pt x="76" y="45"/>
                      <a:pt x="25" y="173"/>
                      <a:pt x="0" y="300"/>
                    </a:cubicBezTo>
                    <a:cubicBezTo>
                      <a:pt x="5" y="345"/>
                      <a:pt x="6" y="391"/>
                      <a:pt x="15" y="435"/>
                    </a:cubicBezTo>
                    <a:cubicBezTo>
                      <a:pt x="38" y="548"/>
                      <a:pt x="115" y="635"/>
                      <a:pt x="165" y="735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93720" y="2707560"/>
                <a:ext cx="57240" cy="387720"/>
              </a:xfrm>
              <a:custGeom>
                <a:avLst/>
                <a:gdLst/>
                <a:ahLst/>
                <a:rect l="l" t="t" r="r" b="b"/>
                <a:pathLst>
                  <a:path w="79" h="525">
                    <a:moveTo>
                      <a:pt x="79" y="0"/>
                    </a:moveTo>
                    <a:cubicBezTo>
                      <a:pt x="69" y="15"/>
                      <a:pt x="56" y="29"/>
                      <a:pt x="49" y="45"/>
                    </a:cubicBezTo>
                    <a:cubicBezTo>
                      <a:pt x="36" y="74"/>
                      <a:pt x="19" y="135"/>
                      <a:pt x="19" y="135"/>
                    </a:cubicBezTo>
                    <a:cubicBezTo>
                      <a:pt x="27" y="309"/>
                      <a:pt x="0" y="397"/>
                      <a:pt x="64" y="525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474520" y="3443760"/>
              <a:ext cx="130680" cy="154800"/>
              <a:chOff x="5474520" y="3443760"/>
              <a:chExt cx="130680" cy="154800"/>
            </a:xfrm>
          </p:grpSpPr>
          <p:sp>
            <p:nvSpPr>
              <p:cNvPr id="164" name=""/>
              <p:cNvSpPr/>
              <p:nvPr/>
            </p:nvSpPr>
            <p:spPr>
              <a:xfrm>
                <a:off x="5474520" y="3531960"/>
                <a:ext cx="130680" cy="720"/>
              </a:xfrm>
              <a:custGeom>
                <a:avLst/>
                <a:gdLst/>
                <a:ahLst/>
                <a:rect l="l" t="t" r="r" b="b"/>
                <a:pathLst>
                  <a:path w="180" h="1">
                    <a:moveTo>
                      <a:pt x="0" y="0"/>
                    </a:moveTo>
                    <a:cubicBezTo>
                      <a:pt x="60" y="0"/>
                      <a:pt x="120" y="0"/>
                      <a:pt x="180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39680" y="3443760"/>
                <a:ext cx="360" cy="154800"/>
              </a:xfrm>
              <a:custGeom>
                <a:avLst/>
                <a:gdLst/>
                <a:ahLst/>
                <a:rect l="l" t="t" r="r" b="b"/>
                <a:pathLst>
                  <a:path w="1" h="210">
                    <a:moveTo>
                      <a:pt x="0" y="0"/>
                    </a:moveTo>
                    <a:cubicBezTo>
                      <a:pt x="0" y="70"/>
                      <a:pt x="0" y="140"/>
                      <a:pt x="0" y="21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081760" y="2406240"/>
              <a:ext cx="130680" cy="154800"/>
              <a:chOff x="5081760" y="2406240"/>
              <a:chExt cx="130680" cy="154800"/>
            </a:xfrm>
          </p:grpSpPr>
          <p:sp>
            <p:nvSpPr>
              <p:cNvPr id="167" name=""/>
              <p:cNvSpPr/>
              <p:nvPr/>
            </p:nvSpPr>
            <p:spPr>
              <a:xfrm>
                <a:off x="5081760" y="2494440"/>
                <a:ext cx="130680" cy="720"/>
              </a:xfrm>
              <a:custGeom>
                <a:avLst/>
                <a:gdLst/>
                <a:ahLst/>
                <a:rect l="l" t="t" r="r" b="b"/>
                <a:pathLst>
                  <a:path w="180" h="1">
                    <a:moveTo>
                      <a:pt x="0" y="0"/>
                    </a:moveTo>
                    <a:cubicBezTo>
                      <a:pt x="60" y="0"/>
                      <a:pt x="120" y="0"/>
                      <a:pt x="180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46920" y="2406240"/>
                <a:ext cx="360" cy="154800"/>
              </a:xfrm>
              <a:custGeom>
                <a:avLst/>
                <a:gdLst/>
                <a:ahLst/>
                <a:rect l="l" t="t" r="r" b="b"/>
                <a:pathLst>
                  <a:path w="1" h="210">
                    <a:moveTo>
                      <a:pt x="0" y="0"/>
                    </a:moveTo>
                    <a:cubicBezTo>
                      <a:pt x="0" y="70"/>
                      <a:pt x="0" y="140"/>
                      <a:pt x="0" y="21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642120" y="2521440"/>
              <a:ext cx="130680" cy="154800"/>
              <a:chOff x="3642120" y="2521440"/>
              <a:chExt cx="130680" cy="154800"/>
            </a:xfrm>
          </p:grpSpPr>
          <p:sp>
            <p:nvSpPr>
              <p:cNvPr id="170" name=""/>
              <p:cNvSpPr/>
              <p:nvPr/>
            </p:nvSpPr>
            <p:spPr>
              <a:xfrm>
                <a:off x="3642120" y="2609640"/>
                <a:ext cx="130680" cy="720"/>
              </a:xfrm>
              <a:custGeom>
                <a:avLst/>
                <a:gdLst/>
                <a:ahLst/>
                <a:rect l="l" t="t" r="r" b="b"/>
                <a:pathLst>
                  <a:path w="180" h="1">
                    <a:moveTo>
                      <a:pt x="0" y="0"/>
                    </a:moveTo>
                    <a:cubicBezTo>
                      <a:pt x="60" y="0"/>
                      <a:pt x="120" y="0"/>
                      <a:pt x="180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07280" y="2521440"/>
                <a:ext cx="360" cy="154800"/>
              </a:xfrm>
              <a:custGeom>
                <a:avLst/>
                <a:gdLst/>
                <a:ahLst/>
                <a:rect l="l" t="t" r="r" b="b"/>
                <a:pathLst>
                  <a:path w="1" h="210">
                    <a:moveTo>
                      <a:pt x="0" y="0"/>
                    </a:moveTo>
                    <a:cubicBezTo>
                      <a:pt x="0" y="70"/>
                      <a:pt x="0" y="140"/>
                      <a:pt x="0" y="21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903840" y="4020120"/>
              <a:ext cx="130680" cy="154800"/>
              <a:chOff x="3903840" y="4020120"/>
              <a:chExt cx="130680" cy="154800"/>
            </a:xfrm>
          </p:grpSpPr>
          <p:sp>
            <p:nvSpPr>
              <p:cNvPr id="173" name=""/>
              <p:cNvSpPr/>
              <p:nvPr/>
            </p:nvSpPr>
            <p:spPr>
              <a:xfrm>
                <a:off x="3903840" y="4108320"/>
                <a:ext cx="130680" cy="720"/>
              </a:xfrm>
              <a:custGeom>
                <a:avLst/>
                <a:gdLst/>
                <a:ahLst/>
                <a:rect l="l" t="t" r="r" b="b"/>
                <a:pathLst>
                  <a:path w="180" h="1">
                    <a:moveTo>
                      <a:pt x="0" y="0"/>
                    </a:moveTo>
                    <a:cubicBezTo>
                      <a:pt x="60" y="0"/>
                      <a:pt x="120" y="0"/>
                      <a:pt x="180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969000" y="4020120"/>
                <a:ext cx="360" cy="154800"/>
              </a:xfrm>
              <a:custGeom>
                <a:avLst/>
                <a:gdLst/>
                <a:ahLst/>
                <a:rect l="l" t="t" r="r" b="b"/>
                <a:pathLst>
                  <a:path w="1" h="210">
                    <a:moveTo>
                      <a:pt x="0" y="0"/>
                    </a:moveTo>
                    <a:cubicBezTo>
                      <a:pt x="0" y="70"/>
                      <a:pt x="0" y="140"/>
                      <a:pt x="0" y="21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249360" y="3097800"/>
              <a:ext cx="130680" cy="154800"/>
              <a:chOff x="3249360" y="3097800"/>
              <a:chExt cx="130680" cy="154800"/>
            </a:xfrm>
          </p:grpSpPr>
          <p:sp>
            <p:nvSpPr>
              <p:cNvPr id="176" name=""/>
              <p:cNvSpPr/>
              <p:nvPr/>
            </p:nvSpPr>
            <p:spPr>
              <a:xfrm>
                <a:off x="3249360" y="3186000"/>
                <a:ext cx="130680" cy="720"/>
              </a:xfrm>
              <a:custGeom>
                <a:avLst/>
                <a:gdLst/>
                <a:ahLst/>
                <a:rect l="l" t="t" r="r" b="b"/>
                <a:pathLst>
                  <a:path w="180" h="1">
                    <a:moveTo>
                      <a:pt x="0" y="0"/>
                    </a:moveTo>
                    <a:cubicBezTo>
                      <a:pt x="60" y="0"/>
                      <a:pt x="120" y="0"/>
                      <a:pt x="180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14520" y="3097800"/>
                <a:ext cx="360" cy="154800"/>
              </a:xfrm>
              <a:custGeom>
                <a:avLst/>
                <a:gdLst/>
                <a:ahLst/>
                <a:rect l="l" t="t" r="r" b="b"/>
                <a:pathLst>
                  <a:path w="1" h="210">
                    <a:moveTo>
                      <a:pt x="0" y="0"/>
                    </a:moveTo>
                    <a:cubicBezTo>
                      <a:pt x="0" y="70"/>
                      <a:pt x="0" y="140"/>
                      <a:pt x="0" y="21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427280" y="2867400"/>
              <a:ext cx="13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95640" y="4437000"/>
            <a:ext cx="59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tation (turning ang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40000" y="5157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ling  (normaliz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4581360"/>
            <a:ext cx="934920" cy="216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5302080"/>
            <a:ext cx="934920" cy="216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5805360"/>
            <a:ext cx="61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ing point  (double leng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5950080"/>
            <a:ext cx="934920" cy="215640"/>
          </a:xfrm>
          <a:custGeom>
            <a:avLst/>
            <a:gdLst>
              <a:gd name="textAreaLeft" fmla="*/ 145800 w 934920"/>
              <a:gd name="textAreaRight" fmla="*/ 818280 w 9349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57708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ndmark sequ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995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ime series to land mark sequ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42920" y="3500280"/>
          <a:ext cx="2592360" cy="20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500280"/>
                    <a:ext cx="259236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826920" y="2349360"/>
            <a:ext cx="64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 I : compare each point with its left neighb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285264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 II : compare each point with its left and right neighb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4365720"/>
            <a:ext cx="1152720" cy="28872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5805360"/>
            <a:ext cx="7499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advantages (ex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loss of inform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042920" y="3500280"/>
          <a:ext cx="2592360" cy="205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3500280"/>
                    <a:ext cx="259236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435640" y="3500280"/>
          <a:ext cx="2592360" cy="204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500280"/>
                    <a:ext cx="259236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0:22:31Z</dcterms:created>
  <dc:creator>He Xu</dc:creator>
  <dc:description/>
  <dc:language>en-US</dc:language>
  <cp:lastModifiedBy>He Xu</cp:lastModifiedBy>
  <dcterms:modified xsi:type="dcterms:W3CDTF">2003-01-03T16:08:29Z</dcterms:modified>
  <cp:revision>17</cp:revision>
  <dc:subject/>
  <dc:title>Turn angle function and elastic time series matching  </dc:title>
</cp:coreProperties>
</file>