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697-7652-4DBA-911F-AC10FF27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011-D63C-43FC-9770-05CA73F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A3D-135F-4A89-B902-8FC6C542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525-F762-4C45-890A-3EAC14C8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51D-DABB-42C2-8235-EF75D81C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8B8C-445F-466C-A4B6-3223017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4A5-98D1-45AC-9A7C-B187595E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F5F-A16C-45C8-A335-799D54A9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FD4B-3C81-4A73-8756-9D2EC8C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14BF-42F1-450A-818B-C4F9B7E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93B0-5B91-4ED1-914C-04E97893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180-1ECA-4C43-B67A-32A23BF1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0D63-A0A7-4EC7-87F5-99DC773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9372-5BF2-46A4-9E41-A87252F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54A9-4055-46E6-80B3-ABFC499C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1D9-3724-4B57-A46E-8EDDF7A0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350-5097-41A0-ADAB-67DF4A54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01A-3258-4574-BF34-4D02453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382-E668-4B0F-912D-DA88797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EB5-DC89-4790-B285-A305AC4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1D7-9B52-4181-9225-9A7694E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2CE-EEC1-450B-B3D0-0D9B921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814-DAC1-43EA-B25A-A6602407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50F-121C-4F04-AD17-2104EA2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A8D0-E299-4AA6-9660-D8E54C38A73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606-6CE9-44F7-B23C-EDE4AB1B1A6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dge Detec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ao Huy Tr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puter Graphics and Image Process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IS 581 – Fall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fessor: Dr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ngin Jan Lateck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bel Opera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oks for edges in both horizontal and vertical directions, then combine the information into a single metr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sks are as follow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Magnitude =              Edge Direction =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01920" y="4092480"/>
                <a:ext cx="2232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495680" y="4092480"/>
                <a:ext cx="190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86200" y="5715000"/>
                <a:ext cx="1143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696080" y="5624640"/>
                <a:ext cx="1143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witt Opera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milar to the Sobel, with different mask coefficient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Magnitude =              Edge Direction =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5680" y="3505320"/>
                <a:ext cx="21844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541760" y="3505320"/>
                <a:ext cx="1811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81280" y="5029200"/>
            <a:ext cx="1143000" cy="534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391520" y="4952880"/>
            <a:ext cx="1143000" cy="8272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irsch Compass Mas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ing a single mask and rotating it to 8 major compass orientations: N, NW, W, SW, S, SE, E, and 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edge magnitude = The maximum value found by the convolution of each mask with the imag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edge direction is defined by the mask that produces the maximum magnitu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irsch Compass Masks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Kirsch masks are defined as follow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: If NE produces the maximum value, then the edge direction is Northea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62120" y="2803680"/>
                <a:ext cx="19047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727360" y="2803680"/>
                <a:ext cx="20908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26160" y="2803680"/>
                <a:ext cx="2008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786720" y="2803680"/>
                <a:ext cx="2049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73120" y="4175280"/>
                <a:ext cx="21128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83000" y="4175280"/>
                <a:ext cx="22366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710240" y="4175280"/>
                <a:ext cx="21542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24520" y="4175280"/>
                <a:ext cx="20289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d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obinson Compass Mas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milar to the Kirsch masks, with mask coefficients of 0, 1, and 2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896760" y="3413160"/>
                <a:ext cx="17589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881440" y="3413160"/>
                <a:ext cx="19047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908600" y="3413160"/>
                <a:ext cx="19652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2240" y="3413160"/>
                <a:ext cx="18619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708120" y="4784760"/>
                <a:ext cx="19666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727360" y="4784760"/>
                <a:ext cx="20700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792680" y="4784760"/>
                <a:ext cx="21128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886440" y="4784760"/>
                <a:ext cx="20289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d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placian Opera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dge magnitude is approximated in digital images by a convolution sum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sign of the result (+ or -) from two adjacent pixels provide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ge orientatio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nd tells us which side of edge brigh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placian Operators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sks for 4 and 8 neighborhoo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sk with stressed significance of the central pixel or its neighborhoo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43160" y="2819520"/>
                <a:ext cx="1531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44960" y="2819520"/>
                <a:ext cx="1532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181240" y="5257800"/>
                <a:ext cx="16556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965840" y="5257800"/>
                <a:ext cx="14904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d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ge Map In Matlab Prog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ement all methods in this pres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up edge detection mask(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se convolution method (filter2 fun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lculate edge magnit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how the result of edge ma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 calculation of edge dire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bel and Prewitt methods are very effectively providing good edge map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irsch and Robinson methods require more time for calculation and their results are not better than the ones produced by Sobel and Prewitt method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oberts and Laplacian methods are not very good as expected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Quick No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tlab’s image processing toolbox provides edge function to find edges in an imag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ge function supports six different edge-finding methods: Sobel, Prewitt, Roberts, Laplacian of Gaussian, Zero-cross, and Cann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ge is a powerful edge-detection metho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ge Det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2286000"/>
            <a:ext cx="8076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are edges in an imag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Det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Detection Metho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Opera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tlab Progr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edges in an im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429588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ges are those places in an image that correspond to object boundar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ges are pixels where image brightness changes abruptly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14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6384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IdealEdge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144792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99" name="RealEdge" descr=""/>
          <p:cNvPicPr/>
          <p:nvPr/>
        </p:nvPicPr>
        <p:blipFill>
          <a:blip r:embed="rId2"/>
          <a:stretch/>
        </p:blipFill>
        <p:spPr>
          <a:xfrm>
            <a:off x="7391520" y="2438280"/>
            <a:ext cx="144756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5486400" y="44197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86728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4419720"/>
            <a:ext cx="0" cy="14475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4419720"/>
            <a:ext cx="6858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586728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4197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86728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419720"/>
            <a:ext cx="144756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0" y="912"/>
                </a:moveTo>
                <a:cubicBezTo>
                  <a:pt x="80" y="890"/>
                  <a:pt x="371" y="904"/>
                  <a:pt x="482" y="782"/>
                </a:cubicBezTo>
                <a:cubicBezTo>
                  <a:pt x="593" y="660"/>
                  <a:pt x="619" y="303"/>
                  <a:pt x="665" y="178"/>
                </a:cubicBezTo>
                <a:cubicBezTo>
                  <a:pt x="711" y="53"/>
                  <a:pt x="716" y="62"/>
                  <a:pt x="757" y="32"/>
                </a:cubicBezTo>
                <a:cubicBezTo>
                  <a:pt x="798" y="2"/>
                  <a:pt x="880" y="7"/>
                  <a:pt x="912" y="0"/>
                </a:cubicBez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45440" y="58672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rightness vs. Spatial Coordina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About Ed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 edge is a property attached to an individual pixel and is calculated from the image function behavior in a neighborhood of the pixel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ctor variabl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agnitud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of the gradient,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rection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 an edg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re information about edges can be found in Dr. Latecki’s Lecture on Filt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age To Edge M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robin2_256x25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313" name="robin2_sobel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648320" y="4267080"/>
            <a:ext cx="45720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ge Det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information in an image is found by looking at the relationship a pixel has with its neighborhoo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a pixel’s gray-level value is similar to those around it, there is probab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 edge at that poi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a pixel’s has neighbors with widely varying gray levels, it may present an edge poi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ge Detection Metho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ny are implemented with convolution mask and based on discrete approximations to differential operat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fferential operations measure the rate of change in the image brightness func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me operators return orientation information.  Other only return information about the existence of an edge at each poin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oberts Opera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k edge point on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 information about edge ori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ork best with binary imag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imary disadvantag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igh sensitivity to noi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w pixels are used to approximate the gradi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oberts Operator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rst form of Roberts Opera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form of Roberts Opera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219320" y="2895480"/>
                <a:ext cx="6705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95280" y="4572000"/>
                <a:ext cx="6324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676520" y="5105520"/>
                <a:ext cx="18288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557600" y="5105520"/>
                <a:ext cx="18576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7:19:49Z</dcterms:created>
  <dc:creator>Hao Tran</dc:creator>
  <dc:description/>
  <dc:language>en-US</dc:language>
  <cp:lastModifiedBy>Hao Tran</cp:lastModifiedBy>
  <dcterms:modified xsi:type="dcterms:W3CDTF">2002-10-30T16:59:27Z</dcterms:modified>
  <cp:revision>12</cp:revision>
  <dc:subject/>
  <dc:title>Edge Detection</dc:title>
</cp:coreProperties>
</file>