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7611-3038-441F-ACB3-36FE94742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F216-D8DC-4FE9-8DC2-41FEBA4F7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80F3-A568-44AF-86F7-B3BD716A8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C6CD-17A1-4032-A27D-8721FDEF5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E54C4-5BC7-4282-90F3-186E6334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840D3-CD11-4D19-8501-DBF44534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D6F60-EFD6-464A-B0B1-0FC0E964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CFDCC-9A7B-40B0-9A5D-73C233C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1D83E-7B85-4BB5-AB98-9145085F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D5103-3A63-43ED-87E5-5FD8A040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76CC0-0E11-448C-B52E-3B224EF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0744-12D1-47A3-A2AD-BC9316BE3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010A1-026D-4B31-B9AC-31B3BD0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DD487-36E5-41E5-A076-54B02D7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6CAD3-89ED-4C8F-9A34-4F9FDE4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56E2C-84DC-45EA-924E-CD3DB8D6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9DEB1-73D1-4DBB-819C-32BBC5B9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6A878-13B6-4088-AE82-91CF830A8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F1C7-FB9A-4D4A-AC57-C31C0D608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3627-1C65-4539-8AA0-A5257DCDC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7CE3-8599-46BB-84C8-DD024B404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49A5-A28A-4FAD-98F2-DD6E65430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EF76-C3A9-44C8-B3C3-45948514F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0130-DC56-4EB5-9E65-B5CF20080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200400" y="6171840"/>
            <a:ext cx="2897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F2C9-5840-48D9-978C-258DCA7E53A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4EF0-0A32-41FD-8174-A1872533DB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iddu@temple.edu" TargetMode="External"/><Relationship Id="rId2" Type="http://schemas.openxmlformats.org/officeDocument/2006/relationships/hyperlink" Target="mailto:Siddu@templ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age Segmentation Using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Region Growing and Shrink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240" y="646200"/>
            <a:ext cx="725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9144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uter Graphics and Image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fessor : Dr. Longin Jan Latec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5257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Siddu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@temple.e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400800" y="3809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9880" y="4495680"/>
            <a:ext cx="2133720" cy="304920"/>
          </a:xfrm>
          <a:prstGeom prst="rightArrow">
            <a:avLst>
              <a:gd name="adj1" fmla="val 50000"/>
              <a:gd name="adj2" fmla="val 174941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2A07-98A2-4702-AE1E-5D4EEC6B63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on Grow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imple approach to image segmentation is to start from some pixels (seeds) representing distinct image regions and to grow them, until they cover the entire im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region growing we need a rule describing a growth mechanism and a rule checking the homogeneity of the regions after each growth st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2037-47E9-4C92-82D8-34496CAD9C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on Growing – cont.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growth mechanism – at each stage k and for each region Ri(k), i = 1,…,N, we check if there are unclassified pixels in the 8-neighbourhood of each pixel of the region bor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fore assigning such a pixel x to a region Ri(k),we check if the region homogeneit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(Ri(k) U {x}) = TRUE , is val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FEAD-3ABC-4A3D-88E3-586A2E17E5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on Growing – cont.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rithmetic mean m and standard deviatio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lass Ri having n pixe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 = (1/n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,c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€R(i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∑ I(r,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.d = Square root((1/n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,c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€R(i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∑[I(r,c)-M]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to decide if the merging of the two regions R1,R2 is allowed, i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|M1 – M2| &lt; (k)s.d(i) , i = 1, 2 , two regions are merg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160F-16C2-466E-8AE4-BA6987F23C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on Growing – cont.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ogeneity test:  if the pixel intensity is close to the region mean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|I(r,c) – M(i)| &lt;= T(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reshold Ti varies depending on the region Rn and the intensity of the pixel I(r,c).It can be chosen this w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(i) = { 1 – [s.d(i)/M(i)] } 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E8E5-C662-4866-9291-C97F7CB773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/ Me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pposite approach to region growing is region shrinking ( splitting 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 top-down approach and it starts with the assumption that the entire image is homogeneo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is is not true , the image is split into four sub im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splitting procedure is repeated recursively until we split the image into homogeneous reg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1EAC-93FD-47D2-AF52-7020999352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/ Me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original image is square N x N, having dimensions that are powers of 2(N = 2n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regions produced but the splitting algorithm are squares having dimensions   M x M , where M is a power of 2 as well (M=2m,M&lt;= n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 the procedure is recursive, it produces an image representation that can be described by a tree whose nodes have four sons 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ch a tree is called a Quadtre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ACBE-C9AF-40D5-A0B9-6E19968441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/ Me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dtr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3429000"/>
            <a:ext cx="2286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4495680"/>
            <a:ext cx="1143000" cy="1067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4495680"/>
            <a:ext cx="1143000" cy="1067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3429000"/>
            <a:ext cx="1143000" cy="1066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429000"/>
            <a:ext cx="1143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429000"/>
            <a:ext cx="6094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39625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429000"/>
            <a:ext cx="533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5257800"/>
            <a:ext cx="38124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5257800"/>
            <a:ext cx="3808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5257800"/>
            <a:ext cx="38124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5257800"/>
            <a:ext cx="38124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191120"/>
            <a:ext cx="3808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4191120"/>
            <a:ext cx="38124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4191120"/>
            <a:ext cx="3808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27432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34340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2819520"/>
            <a:ext cx="228600" cy="1371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2819520"/>
            <a:ext cx="762120" cy="1371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2819520"/>
            <a:ext cx="1295280" cy="1371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324120" y="2819520"/>
            <a:ext cx="685800" cy="1523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24280" y="4343400"/>
            <a:ext cx="1524240" cy="9144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9720" y="4419720"/>
            <a:ext cx="838440" cy="838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095880" y="4419720"/>
            <a:ext cx="152640" cy="838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419720"/>
            <a:ext cx="304920" cy="838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37339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380988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37339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4800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4724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5943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5943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5943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5943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4BD4-C015-4591-B292-FF0B651E54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/ Me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litting techniques disadvantage, they create regions that may be adjacent and homogeneous, but not merg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lit and Merge method – It is an iterative algorithm that includes both splitting and merging at each iter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9A5B-E3CD-4517-9AF6-7509FC4C40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/ Me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region R is inhomogeneous            (P(R)= False) then is split into four sub reg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wo adjacent regions Ri,Rj are homogeneous (P(Ri U Rj) = TRUE), they are merg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lgorithm stops when no further splitting or merging i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8457-5EB4-4E0B-96BF-8EDAC00470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/ Me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plit and merge algorithm produces more compact regions than the pure splitting algorith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0F80-B589-4FA4-B350-92F875C82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ef introduction to Image segm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es of Image segm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ion growing and Shrinking (split /merge )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cations of Image segm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8125-27FF-4CDA-860C-A38FF504D0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pl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D – Imaging : A basic task in 3-D image processing is the segmentation of an image which classifies voxels/pixels into objects or groups. 3-D image segmentation makes it possible to create 3-D rendering for multiple objects and perform quantitative analysis for the size, density and other parameters of detected object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ral applications in the field of Medicine like magnetic resonance imaging (MRI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27BC-F330-4475-A64A-EC08E7C217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– Region gr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38480" y="411480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E9AD-EEE0-4780-809C-406A0BE45A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– Region Spl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62520" y="434340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84AC-5467-4B27-BA0C-71E20921C3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– Region Split and Me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867280" y="31240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14800" y="41148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1466-0CB5-4D26-AE6C-F21CF779FB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– Region grow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62520" y="4419720"/>
            <a:ext cx="1447560" cy="228600"/>
          </a:xfrm>
          <a:prstGeom prst="rightArrow">
            <a:avLst>
              <a:gd name="adj1" fmla="val 50000"/>
              <a:gd name="adj2" fmla="val 15830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FBE3-207C-4599-9882-770558500C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– Region Spl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15000" y="3200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038480" y="42670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A63B-31B4-4F47-9344-01601CA4A0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– Region Split and Me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562720" y="3200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62520" y="4267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94A2-85F2-4E38-90D7-45CD020B9D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gital Image Processing” – Algorithms and Application , A multimedia approach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. Ioannis Pit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 Vision and Image Processing: A Pract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VIP Tools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9A0C-BE7C-4547-9359-6822D0C872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BD00028_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438640" cy="23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1F2B-080F-4887-95F2-E4A3B4F05C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hape of an object can be described in term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s boundary – requires image edge det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gion it occupies – requires image segmentation in homogeneous regions, Image regions generally have homogeneous characteristics (e.g. intensity, textu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6F36-DD4A-4422-BFA4-EE9BA07DEC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- cont.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goal of Image Segmentation is to find regions that represent objects or meaningful parts of objects. Major problems of image segmentation are result of noise in the image.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image domain X must be segmented in N different regions R(1),…,R(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egmentation rule is a logical predicate of the form P(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E9E6-7477-419A-9F23-009BF815E0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- cont.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age segmentation partitions the set X into the subsets R(i), i=1,…,N having the following proper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 =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=1,..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 R(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(i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∩ R(j) = 0 for I ≠ 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(R(i)) = TRUE for i = 1,2,…,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(R(i) U R(j)) = FALSE for i ≠ 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F0B2-538F-486B-8193-114C350C1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- cont.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egmentation result is a logical predicate of the form P(R,x,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is a feature vector associated with an image pix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 is a set of parameters (usually thresholds) A simple segmentation rule has the for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(R) : I(r,c) &lt; 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2A4C-9353-4023-B916-C756FEC157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- cont.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case of color images the feature vector x can be three RGB image components {IR(r,c),IG(r,c),IB(r,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imple segmentation rule may have the for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(R,x,t) : (IR(r,c) &lt;T(R)) &amp;&amp; (IG(r,c)&lt;T(G))&amp;&amp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IB(r,c) &lt; T(B)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DAE3-8096-4432-80EB-C6591D3AB3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- cont.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region is called connected if : …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ixel (x,y) is said to be adjacent to the pixel (a,b) if it belongs to its immediate neighbourh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4-neighbourhood of a pixel (x,y) is the set that includes its 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8-neighbourhood of (x,y) is a superset of the 4-neighbourhood and contains the 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4456-120B-4A09-BB66-11A4D247A3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y Histogram Threshold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y Region Growing and Shrink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y Clustering in the color spa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astro.temple.edu/~sid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FD58-7F8B-4F2C-AAA1-4CF7E415A0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1:15:05Z</dcterms:created>
  <dc:creator>Siddu</dc:creator>
  <dc:description/>
  <dc:language>en-US</dc:language>
  <cp:lastModifiedBy>Tammy Landman</cp:lastModifiedBy>
  <dcterms:modified xsi:type="dcterms:W3CDTF">2002-11-20T20:16:10Z</dcterms:modified>
  <cp:revision>47</cp:revision>
  <dc:subject/>
  <dc:title>Image Segmentation Using Region Growing and Shrinking</dc:title>
</cp:coreProperties>
</file>