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B79A-BB69-48D9-A0AA-A34001559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E985-1C4E-41C0-9970-4D51D3819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F525-65D0-49A6-9B16-FFE7CDFC0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DD10-FC33-4E5C-9ABE-45109A275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45AD-7322-4B0D-AA5E-6BD7814EE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DF41-FC27-4959-8CB9-25D7A8A47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BC96-415A-49D8-89AE-11EA7DD5B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A88F-4261-4C04-B1BC-682CCB429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112B-B453-49EF-B450-B16A525FD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8FC7-9C5D-4B15-BD09-38B8248C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712D-3C22-4FCF-A69A-EBEF8261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7007-83B7-439D-8E58-1D6C83FB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DA850-3C3F-4623-99DB-42128D94FE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latecki@temple.edu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age Simila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ngin Jan Lateck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S Dept. Temple Univ., Philadelph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latecki@temple.e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mage Histo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47920" y="3048120"/>
            <a:ext cx="3808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3048120"/>
            <a:ext cx="38124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3048120"/>
            <a:ext cx="38088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28800" y="3048120"/>
            <a:ext cx="3808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47920" y="3429000"/>
            <a:ext cx="3808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3809880"/>
            <a:ext cx="3808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28800" y="3429000"/>
            <a:ext cx="3808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3809880"/>
            <a:ext cx="3808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4191120"/>
            <a:ext cx="3808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3429000"/>
            <a:ext cx="38124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3429000"/>
            <a:ext cx="3808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3809880"/>
            <a:ext cx="38124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3809880"/>
            <a:ext cx="38088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4191120"/>
            <a:ext cx="38124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191120"/>
            <a:ext cx="38088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666880" y="3886200"/>
            <a:ext cx="1371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828800" y="4191120"/>
            <a:ext cx="38088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0" y="4191120"/>
            <a:ext cx="38088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0" y="3809880"/>
            <a:ext cx="38088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952880" y="4191120"/>
            <a:ext cx="3812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52880" y="2286000"/>
            <a:ext cx="3812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52880" y="2666880"/>
            <a:ext cx="38124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952880" y="3048120"/>
            <a:ext cx="3812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952880" y="3429000"/>
            <a:ext cx="3812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952880" y="3809880"/>
            <a:ext cx="38124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952880" y="1905120"/>
            <a:ext cx="3812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952880" y="1523880"/>
            <a:ext cx="38124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3429000"/>
            <a:ext cx="38088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4120" y="4191120"/>
            <a:ext cx="38088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4120" y="3048120"/>
            <a:ext cx="38088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4120" y="3429000"/>
            <a:ext cx="38088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3809880"/>
            <a:ext cx="38088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0" y="4724280"/>
            <a:ext cx="131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3, 8, 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4120" y="2666880"/>
            <a:ext cx="38088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stogram-based image simila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49880" y="2057400"/>
            <a:ext cx="728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c be some image characteristics and h(a) its hist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image a with k histogram bi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762120" y="3276720"/>
                <a:ext cx="4267080" cy="29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hd</m:t>
                        </m:r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  <m:r>
                              <m:t xml:space="preserve">|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hd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hds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mage Simila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3400" y="1971720"/>
            <a:ext cx="7570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age based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, difference of values of corresponding pix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gram ba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on similarity of objects contained in imag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s image seg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331920"/>
            <a:ext cx="9144000" cy="66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hematical Representation of Im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image is a 2D signal (light intensity) and can be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ed as a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, y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ordinat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, y) represent the spatial location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i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, y)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is call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ixel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ur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ment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ue of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, y) is the light inten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y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or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y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) of imag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ges are of two types: continuous and discr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ntinuous image is a function of two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take values in a continu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g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intensity of a photographic image recorded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ilm is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2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, y) of two real-valu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4776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iscrete image is a function of two variabl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take values over a discrete set (an integer gr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g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intensity of a discretized 32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otographic image is 2D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(</a:t>
            </a:r>
            <a:r>
              <a:rPr b="0" i="1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integer-valued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0" i="1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ing values </a:t>
            </a:r>
            <a:r>
              <a:rPr b="0" i="1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, 1, 2, …, 255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u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represented as a 2D matrix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0,24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or image is usually represented with three matric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t[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0,24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Green[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0,24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Blue[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0,24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Pixel based image simila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7680" y="22003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143000" y="3048120"/>
                <a:ext cx="6642000" cy="30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j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m</m:t>
                                    </m:r>
                                  </m:sup>
                                  <m:e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f</m:t>
                                            </m:r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g</m:t>
                                            </m:r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nary>
                              </m:e>
                            </m:nary>
                          </m:e>
                        </m:rad>
                      </m:e>
                      <m:e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4</m:t>
                                      </m:r>
                                    </m:e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  <m:e>
                                      <m:r>
                                        <m:t xml:space="preserve">7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9</m:t>
                                      </m:r>
                                    </m:e>
                                    <m:e>
                                      <m:r>
                                        <m:t xml:space="preserve">5</m:t>
                                      </m:r>
                                    </m:e>
                                    <m:e>
                                      <m:r>
                                        <m:t xml:space="preserve">5</m:t>
                                      </m:r>
                                    </m:e>
                                  </m:mr>
                                </m:m>
                              </m:e>
                            </m:d>
                            <m:r>
                              <m:t xml:space="preserve">,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5</m:t>
                                      </m:r>
                                    </m:e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  <m:e>
                                      <m:r>
                                        <m:t xml:space="preserve">5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8</m:t>
                                      </m:r>
                                    </m:e>
                                    <m:e>
                                      <m:r>
                                        <m:t xml:space="preserve">5</m:t>
                                      </m:r>
                                    </m:e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</m:mr>
                                </m:m>
                              </m:e>
                            </m:d>
                          </m:e>
                        </m: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832320" y="2209680"/>
            <a:ext cx="59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f and g be two gray-value image 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82480" y="422280"/>
            <a:ext cx="797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 two images of s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x 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some image characteristics that assigns  a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each image pixels, e.g.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(a,x,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gray value of the pix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ixel to pixel differ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685800" y="2286000"/>
                <a:ext cx="5791320" cy="21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d</m:t>
                        </m:r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w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y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h</m:t>
                                </m:r>
                              </m:sup>
                              <m:e>
                                <m:r>
                                  <m:t xml:space="preserve">|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|</m:t>
                                </m:r>
                              </m:e>
                            </m:nary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d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w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y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h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685800" y="1752480"/>
                <a:ext cx="5867280" cy="336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pd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h</m:t>
                            </m:r>
                          </m:e>
                        </m:rad>
                        <m:f>
                          <m:num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d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)</m:t>
                                </m:r>
                              </m:e>
                            </m:bar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e>
                        </m:ba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wh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w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y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h</m:t>
                                </m:r>
                              </m:sup>
                              <m:e>
                                <m:r>
                                  <m:t xml:space="preserve">d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</m:e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wh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w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y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h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  <m:r>
                          <m:t xml:space="preserve">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e>
                        </m:ba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428400" y="270000"/>
            <a:ext cx="739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use statistical mean and variance to add stability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el to pixel imag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30200" y="270000"/>
            <a:ext cx="8239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(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a vector of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(a,x,y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lues assigned to all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imag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 similarity can be expressed as normalized inner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such vectors. Since it yields maximum values for equal fram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ossible disparity measur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533520" y="2666880"/>
                <a:ext cx="387972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d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num>
                      <m:den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∗</m:t>
                        </m:r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79800" y="380880"/>
            <a:ext cx="8076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age histogram is a vec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[1, n]x[1, m]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0, 255] is a gray value imag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de-DE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[0, 255]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0, n*m] is its histogra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de-DE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k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number of pixe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i, j)</a:t>
            </a:r>
            <a:r>
              <a:rPr b="0" i="1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i, j)=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images have similar hist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rning: Different images can have similar hist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914400" y="5257800"/>
                <a:ext cx="718344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55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H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f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H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g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3T18:40:25Z</dcterms:created>
  <dc:creator>CIS Computer Dept</dc:creator>
  <dc:description/>
  <dc:language>en-US</dc:language>
  <cp:lastModifiedBy>CIS Computer Dept</cp:lastModifiedBy>
  <dcterms:modified xsi:type="dcterms:W3CDTF">2002-10-30T20:13:39Z</dcterms:modified>
  <cp:revision>10</cp:revision>
  <dc:subject/>
  <dc:title>Image Similarity</dc:title>
</cp:coreProperties>
</file>