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CF7-65A0-4A94-9C8F-035E042E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949-FB4C-41EF-B880-8A34E809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2FD-A538-411A-B512-946AEDE3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D78-B95B-496A-8C93-AA694A8A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0F59-F7DB-424A-9BAC-232EB533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06D8-8A20-4B62-9507-8A84B9A3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0B45-C957-4E0E-8CDA-C81A939C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9288-C38A-45F0-A515-C93C14B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D405-88F0-49E6-AB7D-E2B32FFD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60A4-9F2B-449A-91F0-503658D6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FD06-FDF2-4410-8A4B-95938B33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F15-2988-403B-BC19-08C21217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9ABA-79C5-421C-B70C-B028D04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0099-53E6-49B5-81EB-763DC3E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ADB1-2CEE-4FF9-8AB9-668F4AC1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105E-3FB2-4358-9D3E-71462F54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0A43-E674-4440-AD33-6092A976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0B0-A8B8-44BD-AABC-31E458AA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FDF-79BC-451E-9C58-2F5F70FE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934-1968-411A-A348-368BFCC0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399-6C80-4D83-9B13-EBAA6CD5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2B9-20DD-44B0-A9EF-8BEB970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864-6E1C-4D80-9EA2-EB8CDBA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05B-E447-4670-AF3C-8C9FAD3B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F7B-3C7B-4165-8207-6BCD64A5C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7C9D-DFD9-405C-8626-46AFA3E7F3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10666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ead2"/>
                </a:solidFill>
                <a:latin typeface="Tahoma"/>
              </a:rPr>
              <a:t>Image Simila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057400"/>
            <a:ext cx="746784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257800"/>
            <a:ext cx="7010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e4118"/>
                </a:solidFill>
                <a:latin typeface="Lucida Handwriting"/>
              </a:rPr>
              <a:t>Presented By:</a:t>
            </a:r>
            <a:r>
              <a:rPr b="1" i="1" lang="en-US" sz="2000" spc="-1" strike="noStrike">
                <a:solidFill>
                  <a:srgbClr val="ffffff"/>
                </a:solidFill>
                <a:latin typeface="Lucida Handwriting"/>
              </a:rPr>
              <a:t>   </a:t>
            </a:r>
            <a:r>
              <a:rPr b="1" i="1" lang="en-US" sz="2000" spc="-1" strike="noStrike">
                <a:solidFill>
                  <a:srgbClr val="f6ead2"/>
                </a:solidFill>
                <a:latin typeface="Lucida Handwriting"/>
              </a:rPr>
              <a:t>Ronak Pa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e4118"/>
                </a:solidFill>
                <a:latin typeface="Lucida Handwriting"/>
              </a:rPr>
              <a:t>Guided By:</a:t>
            </a:r>
            <a:r>
              <a:rPr b="1" i="1" lang="en-US" sz="2000" spc="-1" strike="noStrike">
                <a:solidFill>
                  <a:srgbClr val="6e4118"/>
                </a:solidFill>
                <a:latin typeface="Lucida Handwriting"/>
              </a:rPr>
              <a:t>	</a:t>
            </a:r>
            <a:r>
              <a:rPr b="1" i="1" lang="en-US" sz="2000" spc="-1" strike="noStrike">
                <a:solidFill>
                  <a:srgbClr val="a96425"/>
                </a:solidFill>
                <a:latin typeface="Lucida Handwriting"/>
              </a:rPr>
              <a:t>   </a:t>
            </a:r>
            <a:r>
              <a:rPr b="1" i="1" lang="en-US" sz="2000" spc="-1" strike="noStrike">
                <a:solidFill>
                  <a:srgbClr val="f6ead2"/>
                </a:solidFill>
                <a:latin typeface="Lucida Handwriting"/>
              </a:rPr>
              <a:t>Dr. Longin Jan Latec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828800"/>
            <a:ext cx="7162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put an index n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s me Results, sorted out with the most similar image fir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utputs a retrieval plot: original image vs sorted 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16040" y="733320"/>
          <a:ext cx="7713720" cy="539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33320"/>
                    <a:ext cx="771372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717920" y="2602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 query: 40 (house tour) Result by method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838080" y="838080"/>
          <a:ext cx="773928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73928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0666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ead2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0512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133720"/>
            <a:ext cx="815328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 1 and Method 3, give almost similar resul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 2 gives less accurate results than Methods 1 and 2 because these methods seem to amplify the differ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 5 does not give as good results as expec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 4, is the best and gives very good results, close to human perception. It is also similar to the hist-based resul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is because, in the picture dataset I am working with, there is a lot of pixel-based difference due to the difference in position of the objects due to mo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s 1 and 3 (pixel differences) give good results when there is not much of relative pixel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21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Pixel Based Image Simi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752480"/>
            <a:ext cx="77724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ically, done by computing, for each image, a vector containing the values of an attribute and computing the distance between image feature vectors. Here we have considered the color: Red, Green and B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or Image is a 3-D Matrix, and we can represent it with three 2-D Matri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Red color intensity for each pix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Green color intensity for each pix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 Blue color intensity for each pix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then compare the three matrices with the corresponding matrices of the other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ared using 5 methods, get a similarity measure for the three colors: Red, Green, Blue and all the three. Compare the resulting measure to a similar measure of another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Pre-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590920"/>
            <a:ext cx="72392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ize: In order to compare two pictures, we have to have image matrices of same siz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trieve the three 2-D matrix for each color from the 3-D image matri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t the vector form for each matr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2057400"/>
            <a:ext cx="75438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Comparison Method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828800"/>
            <a:ext cx="672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f and g be two matrices representing a particular color intensity of an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measure of similarity is the Euclidean Distance between two imag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5029200" cy="1155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19320" y="4800600"/>
            <a:ext cx="701028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function im_1=scale1(im11d,im21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 = (im11d - im21d) .* (im11d-im21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 = sum(i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_1=sqrt(i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1981080"/>
            <a:ext cx="7010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(a,x,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be a particular color value of the pixel (x,y) in image 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asure of similarity is the Manhattan Dist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Comparison Method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3505320"/>
          <a:ext cx="483876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05320"/>
                    <a:ext cx="48387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2120" y="4952880"/>
            <a:ext cx="70102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function im_2= scale2(im11d,im21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_2= sum(abs(im11d - im21d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Comparison Method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981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ther measure of similarity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133720" y="2895480"/>
          <a:ext cx="486720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895480"/>
                    <a:ext cx="48672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66680" y="4495680"/>
            <a:ext cx="7010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function im=scale3(im11d,im21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 = (im11d - im21d) .* (im11d-im21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 = sum(i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Comparison Method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2840" y="1752480"/>
            <a:ext cx="73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use statistical mean and variance to add stability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xel to pixel image differ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2743200"/>
          <a:ext cx="33530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33530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191120" y="2895480"/>
            <a:ext cx="4572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function spd = scale4(im11d,im21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d_abxy=im11d-im21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if(d_abxy ==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spd =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d_ab=sum(d_abxy)/896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sd=sum((d_abxy-d_ab).*(d_abxy-ab))/8959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spd=abs(94.657*d_ab/sqrt(sd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ahoma"/>
              </a:rPr>
              <a:t>retur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Comparison Method 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9051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 a vector of 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(a,x,y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alues assigned to all pixels in the imag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Image similarity can be expressed as normalized inner products of such vectors. Since it yields maximum values for equal frames, a possible disparity measure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3505320"/>
          <a:ext cx="274320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505320"/>
                    <a:ext cx="2743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838080" y="4724280"/>
            <a:ext cx="579132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function imd5=scale5(imd11, imd2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d_dot = imd11 * imd21'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d_norm = norm(imd11)* norm(imd21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imd5 = 1-(imd_dot/imd_nor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ahoma"/>
              </a:rPr>
              <a:t>retur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762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ead2"/>
                </a:solidFill>
                <a:latin typeface="Tahoma"/>
              </a:rPr>
              <a:t>Image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73080">
            <a:solidFill>
              <a:srgbClr val="6e4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438280"/>
            <a:ext cx="693396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ists of 100 ima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0 shots taken from four different mov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1-40 :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Mr. Bean's Christm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41-70: S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hots from House Tou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71:90: Shots of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squares on a de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s 91:100: S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hots from a Kylie Minogue interview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9:41:45Z</dcterms:created>
  <dc:creator>Roslin Goran</dc:creator>
  <dc:description/>
  <dc:language>en-US</dc:language>
  <cp:lastModifiedBy>rpatel2</cp:lastModifiedBy>
  <dcterms:modified xsi:type="dcterms:W3CDTF">2002-11-20T21:35:00Z</dcterms:modified>
  <cp:revision>4</cp:revision>
  <dc:subject/>
  <dc:title>Slide 1</dc:title>
</cp:coreProperties>
</file>