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E89-C8A8-4026-AB59-335DB0C3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3A3-8AB5-417D-B590-DCC9ABFD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469-13EC-42C4-A39E-ED97F531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954-C942-424F-A952-DAA2CAE4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59AA-EC0E-4C8C-8755-770A1400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1FFB-C46C-43F0-9E08-61C4ABF9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E1D3-8449-4259-AE00-F0D3D824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80E8-C3BB-464D-A72A-F98866A1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75AA-C87E-4C33-AD1C-C3C2F50A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CCA7-EF49-4DF8-A2DC-E94E7492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B959-1B9E-496D-B39B-9B0716F4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A06-41A4-4B12-9EB1-F09647CE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142-E3AF-4035-B157-A03D162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ED31-A3B9-4B33-B1F0-06B55CF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381D-E935-4AC4-A0ED-7D51860F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6EA-5270-4734-AA56-BEE72498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AF2B-1772-47F0-A1DA-D2B10E67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9E8-7CBC-48C5-BB83-9853E02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CEF-9C56-458D-8FC1-0A840423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7A4-2570-4040-A1F7-A76C3F9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3A9-A1E4-48B7-886C-79AD173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106-C90F-4532-89C5-A4F1A9F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E2C-85D8-413E-BDC8-D261FDD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47C-8796-46FC-B55B-7D5C990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45FE-12D9-43D7-9D4E-FCCE971FA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D001-D794-4FA6-9705-19F1D1F58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87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emplate Match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524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oland Mieziank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signment 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IS 58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ober 30, 200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5AE9-FE60-4A51-901C-26FE49F6FD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rrelation is Computation Intensiv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mplate image size: 53 x 48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urce image size: 177 x 236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umption: template image is inside the source image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rrelation (search) matrix size: 124 x 188   (177-53 x 236-48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utation cou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24 x 188 x 53 x 48 = 59,305,72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247-244A-4C21-B2D8-217D63E4EA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achine Vision Exampl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496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oad printed circuit board into a mach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ach template image (select and store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oad printed circuit boar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pture a source image and find templ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5" name="CamDown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78604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820-3A25-4660-8EAF-6094305FF0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achine Vision Exampl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87" name="G_Image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3063960" cy="2297160"/>
          </a:xfrm>
          <a:prstGeom prst="rect">
            <a:avLst/>
          </a:prstGeom>
          <a:ln w="0">
            <a:noFill/>
          </a:ln>
        </p:spPr>
      </p:pic>
      <p:pic>
        <p:nvPicPr>
          <p:cNvPr id="188" name="G_ImageSearch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G_Temp" descr=""/>
          <p:cNvPicPr/>
          <p:nvPr/>
        </p:nvPicPr>
        <p:blipFill>
          <a:blip r:embed="rId3"/>
          <a:stretch/>
        </p:blipFill>
        <p:spPr>
          <a:xfrm>
            <a:off x="4648320" y="2819520"/>
            <a:ext cx="519120" cy="990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66680" y="4495680"/>
            <a:ext cx="76964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umptions and Limi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Template is entirely located in source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Partial template matching was not performed (at boundaries, within im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Rotation and scaling will cause poor mat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38E-9B6B-4BF8-82C2-317DC26E37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atlab Exampl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2" name="CircleTemplate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1292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F01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94" name="F05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95" name="F06" descr=""/>
          <p:cNvPicPr/>
          <p:nvPr/>
        </p:nvPicPr>
        <p:blipFill>
          <a:blip r:embed="rId4"/>
          <a:stretch/>
        </p:blipFill>
        <p:spPr>
          <a:xfrm>
            <a:off x="1600200" y="4191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F08" descr=""/>
          <p:cNvPicPr/>
          <p:nvPr/>
        </p:nvPicPr>
        <p:blipFill>
          <a:blip r:embed="rId5"/>
          <a:stretch/>
        </p:blipFill>
        <p:spPr>
          <a:xfrm>
            <a:off x="4038480" y="4191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AD1" descr=""/>
          <p:cNvPicPr/>
          <p:nvPr/>
        </p:nvPicPr>
        <p:blipFill>
          <a:blip r:embed="rId6"/>
          <a:stretch/>
        </p:blipFill>
        <p:spPr>
          <a:xfrm>
            <a:off x="6400800" y="41911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7400" y="3429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657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e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3657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e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5638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e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638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et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56386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et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lab Data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5C7-C895-47F0-96E4-355E6C84F5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ata Set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6" name="F01CorrMap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657600" cy="2884320"/>
          </a:xfrm>
          <a:prstGeom prst="rect">
            <a:avLst/>
          </a:prstGeom>
          <a:ln w="0">
            <a:noFill/>
          </a:ln>
        </p:spPr>
      </p:pic>
      <p:pic>
        <p:nvPicPr>
          <p:cNvPr id="207" name="F01TempContour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886200" cy="2913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371600" y="5410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elation Map with Pe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533412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 Image, Found Rectangle, and Correlation 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E48-B784-45E0-8152-7E5BF127FC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ata Set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11" name="F05CorrMap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3810240" cy="3004920"/>
          </a:xfrm>
          <a:prstGeom prst="rect">
            <a:avLst/>
          </a:prstGeom>
          <a:ln w="0">
            <a:noFill/>
          </a:ln>
        </p:spPr>
      </p:pic>
      <p:pic>
        <p:nvPicPr>
          <p:cNvPr id="212" name="F05Temp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371600" y="5410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elation Map with Pe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33412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 Image and Found Rect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14E-F3EB-4DDE-A326-1C0CEDC8B5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ata Set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16" name="F06CorrMap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886200" cy="3063600"/>
          </a:xfrm>
          <a:prstGeom prst="rect">
            <a:avLst/>
          </a:prstGeom>
          <a:ln w="0">
            <a:noFill/>
          </a:ln>
        </p:spPr>
      </p:pic>
      <p:pic>
        <p:nvPicPr>
          <p:cNvPr id="217" name="F06Temp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371600" y="5410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elation Map with Pe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533412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 Image and Found Rect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3BA-B7AB-496B-9B78-7C3026E829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ata Set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21" name="F08CorrMap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886200" cy="3063960"/>
          </a:xfrm>
          <a:prstGeom prst="rect">
            <a:avLst/>
          </a:prstGeom>
          <a:ln w="0">
            <a:noFill/>
          </a:ln>
        </p:spPr>
      </p:pic>
      <p:pic>
        <p:nvPicPr>
          <p:cNvPr id="222" name="F08Temp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71600" y="5410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elation Map with Pe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533412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 Image and Found Rect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866-1D7B-4076-A19E-15A6489460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ata Set 5, Corr. Map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26" name="PAD1CorrMap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191120" cy="3305160"/>
          </a:xfrm>
          <a:prstGeom prst="rect">
            <a:avLst/>
          </a:prstGeom>
          <a:ln w="0">
            <a:noFill/>
          </a:ln>
        </p:spPr>
      </p:pic>
      <p:pic>
        <p:nvPicPr>
          <p:cNvPr id="227" name="PAD1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71600" y="56386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elation Map with Pe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5638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7BE-3550-4B66-9904-A864BD6475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ata Set 5, Result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31" name="PAD1TempN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232" name="PAD1TempY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886200" cy="2911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47920" y="54100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shold set to 0.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5410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shold set to 0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CEE-08C7-4AB2-AD74-9FFBB873A8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mplate Match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on and Meth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-Level Imag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ay-Level Imag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tlab Examp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ay-Level Template Match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chine Vision Examp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26F-5A6B-4953-BD2E-87AD5EFD4A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atlab and Data Fil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2133720"/>
            <a:ext cx="73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133720"/>
            <a:ext cx="739116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Matlab F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w2.m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ndTemplate.m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hw2output.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Data and Output F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6Temp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8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ircleTemplate.bmp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8CorrMap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1.BMP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8CorrMap.txt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1CorrMap.bmp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8Temp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1CorrMap.t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D1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1Temp.bmp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D1CorrMap.bmp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1TempContour.bmp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D1CorrMap.tx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5.BMP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D1TempN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5CorrMap.bmp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D1TempY.bmp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5CorrMap.txt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5Temp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6.B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6CorrMap.bm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06CorrMap.tx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9DE-898D-4F28-91CA-6F2097868F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7920" y="2739960"/>
            <a:ext cx="39625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Question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Answe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CFE-1621-407A-A179-3B283CB0E7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efini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chnique used in classifying object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mplate Matching techniques compare portions of images against one another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ample image may be used to recognize similar objects in source imag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6DA-5E3D-46F9-99B1-24D32231FA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efinition, cont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f standard deviation of the template image compared to the source image is small enough, template matching may be used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mplates are most often used to identify printed characters, numbers, and other small, simple object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20F-BE81-4A8B-98C6-6EDB0BD4DA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ethod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2133720"/>
            <a:ext cx="6933600" cy="2181240"/>
            <a:chOff x="1219320" y="2133720"/>
            <a:chExt cx="6933600" cy="2181240"/>
          </a:xfrm>
        </p:grpSpPr>
        <p:sp>
          <p:nvSpPr>
            <p:cNvPr id="141" name=""/>
            <p:cNvSpPr/>
            <p:nvPr/>
          </p:nvSpPr>
          <p:spPr>
            <a:xfrm>
              <a:off x="1219320" y="2133720"/>
              <a:ext cx="2209320" cy="1904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160" y="2438280"/>
              <a:ext cx="533160" cy="532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2361960"/>
              <a:ext cx="1066320" cy="685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04760" y="2666880"/>
              <a:ext cx="75960" cy="756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666880"/>
              <a:ext cx="38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x,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7040" y="327636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emplate Im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52480" y="4038480"/>
              <a:ext cx="99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put Im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864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(x,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44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(x,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240" y="2133720"/>
              <a:ext cx="2209680" cy="1904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6760" y="403848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utput Im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040" y="2666880"/>
              <a:ext cx="75960" cy="756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6760" y="2666880"/>
              <a:ext cx="38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x,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981080" y="2971440"/>
              <a:ext cx="15192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14440" y="259056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rrel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2666880"/>
              <a:ext cx="20570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2666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143000" y="4343400"/>
            <a:ext cx="7315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tching process moves the template image to all possible positions in a larger source image and computes a numerical index that indicates how well the template matches the image in that posi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tch is done on a pixel-by-pixel bas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9E5-81B2-41B0-B37E-166712656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rrela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Correl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is a measure of the degree to which two variables agree, not necessary in actual value but in general behavior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two variables are the corresponding pixel values in two images, template and sourc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3CE-00AF-4890-99ED-E697E46F20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Bi-Level Image TM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mplate is a small image, usually a bi-level image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 template in source image, with a Yes/No approach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362320" y="3809880"/>
            <a:ext cx="3962160" cy="2151720"/>
            <a:chOff x="2362320" y="3809880"/>
            <a:chExt cx="3962160" cy="2151720"/>
          </a:xfrm>
        </p:grpSpPr>
        <p:pic>
          <p:nvPicPr>
            <p:cNvPr id="164" name="E_Temp" descr=""/>
            <p:cNvPicPr/>
            <p:nvPr/>
          </p:nvPicPr>
          <p:blipFill>
            <a:blip r:embed="rId1"/>
            <a:stretch/>
          </p:blipFill>
          <p:spPr>
            <a:xfrm>
              <a:off x="2666880" y="44956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E_Image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362320" y="5562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empl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52880" y="5562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BB1-1D35-492F-A1C7-152706E99C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Grey-Level Image TM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en using template-matching scheme on grey-level image it is unreasonable to expect a perfect match of the grey level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stead of  yes/no match at each pixel, the difference in level should be used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523880" y="4038480"/>
            <a:ext cx="5273640" cy="2297160"/>
            <a:chOff x="1523880" y="4038480"/>
            <a:chExt cx="5273640" cy="2297160"/>
          </a:xfrm>
        </p:grpSpPr>
        <p:pic>
          <p:nvPicPr>
            <p:cNvPr id="171" name="G_Temp" descr=""/>
            <p:cNvPicPr/>
            <p:nvPr/>
          </p:nvPicPr>
          <p:blipFill>
            <a:blip r:embed="rId1"/>
            <a:stretch/>
          </p:blipFill>
          <p:spPr>
            <a:xfrm>
              <a:off x="2743200" y="4495680"/>
              <a:ext cx="5587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G_Image" descr=""/>
            <p:cNvPicPr/>
            <p:nvPr/>
          </p:nvPicPr>
          <p:blipFill>
            <a:blip r:embed="rId2"/>
            <a:stretch/>
          </p:blipFill>
          <p:spPr>
            <a:xfrm>
              <a:off x="3733920" y="4038480"/>
              <a:ext cx="306360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52388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empl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934320" y="4952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E75-7765-4DDD-9EE1-D7CD0FEA4E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Grey-Level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rrelation Formula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905120" y="1981080"/>
                <a:ext cx="556236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219320" y="3962520"/>
            <a:ext cx="7467480" cy="2355120"/>
            <a:chOff x="1219320" y="3962520"/>
            <a:chExt cx="7467480" cy="2355120"/>
          </a:xfrm>
        </p:grpSpPr>
        <p:sp>
          <p:nvSpPr>
            <p:cNvPr id="178" name=""/>
            <p:cNvSpPr/>
            <p:nvPr/>
          </p:nvSpPr>
          <p:spPr>
            <a:xfrm>
              <a:off x="1219320" y="3962520"/>
              <a:ext cx="7467480" cy="23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 is the template gray level im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 is the average grey level in the template im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y is the source image se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y is the average grey level in the source im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N is the number of pixels in the section image (section image == template image size) columns * row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he value r is between –1 and +1, with larger values representing a stronger relationship between the two image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5280" y="434340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95280" y="495288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6DF-E533-4577-BD09-347AFE18B6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2:01:10Z</dcterms:created>
  <dc:creator>Admin</dc:creator>
  <dc:description/>
  <dc:language>en-US</dc:language>
  <cp:lastModifiedBy>Admin</cp:lastModifiedBy>
  <dcterms:modified xsi:type="dcterms:W3CDTF">2002-10-29T04:02:38Z</dcterms:modified>
  <cp:revision>56</cp:revision>
  <dc:subject/>
  <dc:title>Template Matching</dc:title>
</cp:coreProperties>
</file>