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B3C0-D099-43A5-92D0-32A417037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95F9-B77C-4275-9899-4DBF17F71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9819-D559-40A0-A92E-4F21163B0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F576-B569-460A-96E2-55260D57C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E4F7B-CA9E-4DE3-884A-B9C121411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8B351-9741-4579-A812-EB6424D05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469A1-F852-43CD-AF61-FCEB26607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14C8E-0877-4495-94BE-AC1FBC01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27DF3-D8B1-43FF-BBBD-1698BBC3E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BA980-565B-474C-84C1-AC6E38128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E30FE-EB11-45CE-A5AE-9FA07352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B1D0-A5AF-4C39-AEF3-8C42702BC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81810-81A3-4F0A-853D-DF163F50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8E039-8021-4C90-892D-AA0D32FD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BD418-60BD-49C6-9431-D851BBDD8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B6AB0-E3E5-4E51-B624-DA01B80F8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FBE46-0BB6-4BEB-A83E-EBF42FD9B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65C7-3387-4DD8-ABE2-1C5F1D11A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3C44-BA44-4A45-9FC1-F7F3E7FB8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35FD-AD58-4484-94BC-A76F0D32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F196-5399-416C-A423-A2D7A74E5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9EA6-0ECA-4F5A-B68A-DA08E9B7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1CED-72BE-4888-87F0-F69ABF67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DC0E-9BE6-4D34-A7E1-50553C60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89B53-F3FC-42DA-A718-7FD52BB509A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A1C67-714A-416F-8B83-F43A1AF0197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71200" y="920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Moving Color Ball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7088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ueyan L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IS 58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ignment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Graphics and Image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f. Longin Jan Lateck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The idea…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838080" y="2057400"/>
            <a:ext cx="8110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a colorful ball move around within a predefined rectangle border. When it hits the border, color ball will change direction and keep moving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71200" y="920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Input image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2960" y="1904760"/>
            <a:ext cx="3978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lor ball bmp fi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age format: 24-bit RG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ite backgroun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 all 255’s 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5043600" y="2743200"/>
          <a:ext cx="394812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3600" y="2743200"/>
                    <a:ext cx="394812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71200" y="920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How to move the color ball?(1)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read the bmp image fil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create an avi object to generate a compressed movi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convert the image into a 2D frame and add the first frame into the avi objec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se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amesPerSec = 25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merOfFrames = 250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71200" y="920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How to move the color ball?(2)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(in a loop) draw the color ball in new locations to make it mo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)Find the location of the current color ball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n clear i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2)Calculate the new location, then redraw th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lor ball into the new loca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3)Convert the the current color ball into 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D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ame and add into the avi objec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71200" y="920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Details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ease see the source code: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vingColorBall.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the movi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lorball.av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2:44:50Z</dcterms:created>
  <dc:creator>Tao Duan</dc:creator>
  <dc:description/>
  <dc:language>en-US</dc:language>
  <cp:lastModifiedBy>tduan</cp:lastModifiedBy>
  <dcterms:modified xsi:type="dcterms:W3CDTF">2002-10-28T15:20:35Z</dcterms:modified>
  <cp:revision>54</cp:revision>
  <dc:subject/>
  <dc:title>Moving Color Ball</dc:title>
</cp:coreProperties>
</file>