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9AF6-88CC-4495-8F88-10FE192D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24D3-FAA5-4D40-80A5-191D108F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C0C3-F3FE-4C22-B276-E784EEE8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7246-E89F-444E-B0BD-206B3767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1354-6C18-477E-A3D7-77DE88119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4FD7-890D-4698-AB85-55142B3E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3E5B-4BF0-4740-B176-B768174F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2CBC-8792-4B9B-B4B2-B6FADFF9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6B63-B702-4689-96B9-4A23F6E1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4199-F8DC-4CC3-A38C-D4D22D65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FE9B-5348-422D-96DD-5EEB8274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8093-4E77-4E48-B6FB-46CCA9CD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B214-222C-4C0B-997E-A773583E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347C-3F4B-42E7-BDAB-F12808F9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FFBC-2677-4963-A44F-BC646A0B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13CD-5591-41A6-99E5-507907D06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3CD2-F7C0-4EAE-8F89-A6388EAB0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C623-73CE-47D9-AEC0-08C62132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3A84-616B-4986-AAED-D9ABCC1A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5567-1BAC-444A-869F-6BE34559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EF59-7901-44CC-8EBF-4B950D09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6F21-37E5-4C29-A631-AE222A6D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21F6-183C-4033-923A-0486D8DF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04E5-D5CE-4381-A843-E7773454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910D-7113-4A91-8A34-D37D5765A8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1912-2F04-4964-B21A-7B3E3D90A0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laine’s Mini-movi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00200" y="365760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thor:Xinzhen (Elaine) W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visor : Dr.Longin Jan Lateck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ct,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dea…Idea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lmart’s “low-price everyday” yellow f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m…let’s play with the fac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724280" y="2514600"/>
          <a:ext cx="1600200" cy="15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514600"/>
                    <a:ext cx="160020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dea…Idea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f the face looks like thi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648320" y="2514600"/>
          <a:ext cx="1676160" cy="16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14600"/>
                    <a:ext cx="167616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Sto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, long ago, there was one time…little Ryan was trying to rolling his eyeballs but somehow confused himself , but finally he knew how and had fu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ttle Ryan lives happily thereafter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laine’s Mini-Movi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go movie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18:41:34Z</dcterms:created>
  <dc:creator>xwang</dc:creator>
  <dc:description/>
  <dc:language>en-US</dc:language>
  <cp:lastModifiedBy>xwang</cp:lastModifiedBy>
  <dcterms:modified xsi:type="dcterms:W3CDTF">2002-10-16T19:26:50Z</dcterms:modified>
  <cp:revision>1</cp:revision>
  <dc:subject/>
  <dc:title>Elaine’s Mini-movie</dc:title>
</cp:coreProperties>
</file>