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109-C352-48BA-A784-E240C11E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D61-FB67-4850-9B20-6879E40C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F1C2-99B4-4FB9-9F2B-E064C89E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D1D-02F5-4B0C-AB91-BFBE735C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998-08EE-4E97-AA52-32D8C1E5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F62-E1E2-444B-95D2-C9A000EF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23FE-24F7-41D8-8644-6BFF2571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B98-4978-4982-A1DE-26D7B834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B9D-1E3D-4916-B5F5-753F6AB2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0761-7EDF-42B8-BC58-8254767E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0C84-B905-45F8-9172-0FE80F4C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6AB-3498-45FD-BA52-2C4B3274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868C-C891-41E7-A70B-26E5B220E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S 581Assignmen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o J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masjt@temple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movie using Matlab func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use at most one input ima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 should be 5 to 10 s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E01832_" descr=""/>
          <p:cNvPicPr/>
          <p:nvPr/>
        </p:nvPicPr>
        <p:blipFill>
          <a:blip r:embed="rId1"/>
          <a:stretch/>
        </p:blipFill>
        <p:spPr>
          <a:xfrm>
            <a:off x="4648320" y="2297160"/>
            <a:ext cx="38098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’m going to d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297144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on and Earth in the d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the moon cycle around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oon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2057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pi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875120" y="1982880"/>
          <a:ext cx="3813120" cy="392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5120" y="1982880"/>
                    <a:ext cx="381312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input pi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to recognize something in the pi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to make something m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the recogni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format: RG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image data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three 2d-matr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k backgrou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all 0’s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on is whi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all 255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th is bl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255 in th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r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oon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the recognition problem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1752480"/>
            <a:ext cx="63244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elements with 255 in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rix are from the m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find moon in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rix</a:t>
            </a:r>
            <a:br>
              <a:rPr sz="2800"/>
            </a:b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oonOriY,moonOriX] = find(wholeImg(:,:,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make i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we have background im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k background and a static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moon image which are supposed to move around the ear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ssume to be at the picture cen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use matrix operation(rotation) to make the moon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make i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lation to different coordination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(0,0) at left top to (0,0) at cen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s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late back to the original coordination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s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the source code – moon.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omas</cp:lastModifiedBy>
  <dcterms:modified xsi:type="dcterms:W3CDTF">2002-10-09T18:06:02Z</dcterms:modified>
  <cp:revision>18</cp:revision>
  <dc:subject/>
  <dc:title>PowerPoint Presentation</dc:title>
</cp:coreProperties>
</file>