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725B-0DF7-4D6A-AC3B-9A88111CF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EB79-4596-4562-8165-9C4A7CBF9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50D5-6414-45B5-86B9-3D4D936D7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2B38-0A29-44E4-977F-AC5C2711A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3894-31FA-4E97-BFC9-08D0C198E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FD5A-DB42-4D0F-ADAD-D7A35BCDC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7C01-CDF8-4F35-BD8C-DD7D55795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E671-0B1B-4DA5-866F-B4195C217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0B67-294E-4B82-98E4-27E32267B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324B-1764-42A9-8D0F-6101B7FB1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84FA-D867-463F-AF73-6A7B2267B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4DE9-1DA0-4B55-A66D-38FC716B7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35A3F-7C92-4492-9701-441D4AC399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3880" y="914400"/>
            <a:ext cx="601992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IS – 58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r Graphics &amp; Image 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. Longin Jan Lateck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Making of SpeedK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ddalinga B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ddu@temple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7621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to do  ??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52480" y="2743200"/>
            <a:ext cx="617220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edkar Dos G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 cars ,flags and the tr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 of the 4 cars ,one collects the flags and the other 3 try to crash the flag collecting c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90720" y="68580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95280" y="1905120"/>
            <a:ext cx="69343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 different color c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-ordinate the movements of the 4 cars on the tr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676520" y="2971800"/>
            <a:ext cx="5715000" cy="33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143000" y="6858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phics Techniques and the Im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219320" y="2362320"/>
            <a:ext cx="693396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o-ordinates of the cars are translated to make the cars mo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image track.bmp is a 800 X 600 256 color gray 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4 cars are of different color intensity level ( 0 , 170,149,10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371600" y="2514600"/>
            <a:ext cx="655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atch the Movie and see the source code SpeedKar.m for the detai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6T06:39:32Z</dcterms:created>
  <dc:creator>Siddu</dc:creator>
  <dc:description/>
  <dc:language>en-US</dc:language>
  <cp:lastModifiedBy>Siddu</cp:lastModifiedBy>
  <dcterms:modified xsi:type="dcterms:W3CDTF">2002-10-17T02:37:59Z</dcterms:modified>
  <cp:revision>7</cp:revision>
  <dc:subject/>
  <dc:title>Slide 1</dc:title>
</cp:coreProperties>
</file>