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C9B-2CD0-4555-B1BA-82CB11D7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A05-4EB1-4205-8981-5E1FF5EB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D692-6ACB-4B43-8EC7-02E0BEA6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2D5-1535-4691-83B8-F0AB0D29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5D34-F9ED-4745-9773-20F5B2B6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358A-0758-4B31-89EF-A7B525AB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9BE7-1E11-4DD2-903C-7ED02E1F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F475-8530-4520-9D10-A699884C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7707-5712-46AE-9BD7-62A8F612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96AE-6B87-442C-A910-53728824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7156-F045-475C-8301-2BB5427C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040-33FA-4792-A4BB-5E5C09FC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5D27-6523-41EC-BA8B-FBCD3BE4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5B55-EDC2-4CD2-A33D-F0C22CF2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AD8B-F3F7-45C3-BEB5-B51461EF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F308-EB6E-41CD-B784-ACE5CEB4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D981-242C-47C1-B985-99342C75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0D5-B5F4-49ED-9349-7D28022D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E40-C448-401E-AE31-EAF6CEBA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7EC-A79F-47B0-B2D5-702EC0D5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EA4-3A22-4115-998E-9617DD1C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EFD-5F6C-4BE3-B852-936624CA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CF9-E5C9-49FD-BAEE-025531BC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CD5-B4CE-48FF-B0E7-8577B2F4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5AD5-7312-4911-B76C-C8B77ED8BD3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CCEC-EADA-4194-902B-A7C4A572DC6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Adventures of The Cub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oland Mieziank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IS 581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omputer Graphics and Image Processin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Prof. Longin Jan Latecki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oland Miezianko, CIS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A058-FE8C-4060-996E-1E856A6C18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Objectiv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nstruct a 3D object in Matlab (Cube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reate and use Homogenous Coordinat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mpute all transformation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ransl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otation x,y,z-axi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lyb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Miezianko, CIS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011-9C8F-4C68-B039-79F2277B25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struct the Cube, matrix dat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efine matrix of vertic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8x3 matri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efine matrix of fac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6x4 matri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efine matrix of vertex and face color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6x3 matri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Miezianko, CIS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F54-D1E7-4C5F-AB06-921408C41D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struct the Cube, displa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nstruct cube using the </a:t>
            </a: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patch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 comman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atch('Vertices', v, 'Faces', f, 'FaceVertexCData', fvc, 'FaceColor', 'flat', 'EdgeColor', 'none'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t colors to be transparen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lpha(.5);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Miezianko, CIS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34CF-B3FE-48A3-B8B9-0816AFAA38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Homogeneous Equation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atlab vertices are defined as triple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 x 3 matri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ust add additional column to the vertex matrix (N x 4 matrix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Vw = [v  vw]';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Miezianko, CIS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9193-6D57-42AA-8F0C-37F714A045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atrix Operation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atrix operation to translate, scale, and rotat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otate about x-axis exampl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380988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x = [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(xang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sin(xang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n(xang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(xang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w = [v  vw]'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comp = ( rx * Vw )'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new = Vcomp(:,1:3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Miezianko, CIS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5EC-D004-438B-A4C7-74AFAD5006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Movi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3123720"/>
            <a:ext cx="45720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"Adventures of The Cube"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Miezianko, CIS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F54-A11B-498E-B306-7BD0CCE0CA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22:06:44Z</dcterms:created>
  <dc:creator>Roland Miezianko</dc:creator>
  <dc:description/>
  <dc:language>en-US</dc:language>
  <cp:lastModifiedBy>Roland Miezianko</cp:lastModifiedBy>
  <dcterms:modified xsi:type="dcterms:W3CDTF">2002-10-08T22:25:40Z</dcterms:modified>
  <cp:revision>9</cp:revision>
  <dc:subject/>
  <dc:title>Adventures of The Cube</dc:title>
</cp:coreProperties>
</file>