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73E-5C98-4EE0-9730-76CB991F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B1B-6E79-49A9-B0BB-C91CB4D0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0F5-BF12-4960-86CC-8E98D5AF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A80-A1DF-4A96-AFE0-0C335255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F09B-199D-45E5-9113-6D437891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01CC-DB0D-4E6F-9154-AEC2579C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2D11-F7EB-46CD-9EB1-BF05A66B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15BC-9067-4ECF-8CB9-0B4A63D4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4523-EAD3-4586-9902-C8D8F4B5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4EBB-6B68-4697-B3DC-9CEBE052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09D9-DD16-4192-B0CE-EB0BE63B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84F-6741-48EA-B633-297F3DD9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F0AE-1C4B-4FE8-AB4D-84BD9373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A31E-D5CE-4A5C-A289-720346FF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C43B-B811-41C4-985A-DACAF65D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CF83-2BA7-42D7-93E5-817F4F8A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E16D-0BB5-4BA3-9ED3-A0DEBBDE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016-4E87-4510-A948-2241EB07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759-C3B4-4BA7-8DCB-B73C3BE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4CB-D163-47CF-9CFB-26EC884F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905-D795-4829-A841-7F7BF99C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10D-6274-46F6-9F96-192D63BE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CF9-DB71-4723-BD3B-0093F92E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49D-7E7B-4085-8872-A64F5661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B129-C024-4B8C-BB50-C3A88A69299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05C9-782D-4517-BCF6-3435A201C06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 Feather’s Rhapsod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581 Movi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shan 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feather4small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2463840" cy="185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eliminating + rot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819520" y="2819520"/>
          <a:ext cx="3352680" cy="33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819520"/>
                    <a:ext cx="335268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End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0" name="feather4small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2463840" cy="185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ome Though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ictures can make a movie more vivid, so the problem is how to make some different images from an im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echniques provided by matlab can make these images mov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chniqu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metry of the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ize an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e an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amples of Symmetry Usag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itch the X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feather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1578240" cy="1578240"/>
          </a:xfrm>
          <a:prstGeom prst="rect">
            <a:avLst/>
          </a:prstGeom>
          <a:ln w="0">
            <a:noFill/>
          </a:ln>
        </p:spPr>
      </p:pic>
      <p:pic>
        <p:nvPicPr>
          <p:cNvPr id="156" name="feather_sym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1577880" cy="157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the right half of the image to the le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feather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1578240" cy="1578240"/>
          </a:xfrm>
          <a:prstGeom prst="rect">
            <a:avLst/>
          </a:prstGeom>
          <a:ln w="0">
            <a:noFill/>
          </a:ln>
        </p:spPr>
      </p:pic>
      <p:pic>
        <p:nvPicPr>
          <p:cNvPr id="160" name="feather_r2l" descr=""/>
          <p:cNvPicPr/>
          <p:nvPr/>
        </p:nvPicPr>
        <p:blipFill>
          <a:blip r:embed="rId2"/>
          <a:stretch/>
        </p:blipFill>
        <p:spPr>
          <a:xfrm>
            <a:off x="6477120" y="1905120"/>
            <a:ext cx="1577880" cy="1577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243828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3809880"/>
            <a:ext cx="77724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the up half of the image to the d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feather_r2l" descr=""/>
          <p:cNvPicPr/>
          <p:nvPr/>
        </p:nvPicPr>
        <p:blipFill>
          <a:blip r:embed="rId3"/>
          <a:stretch/>
        </p:blipFill>
        <p:spPr>
          <a:xfrm>
            <a:off x="1752480" y="4648320"/>
            <a:ext cx="1578240" cy="1577880"/>
          </a:xfrm>
          <a:prstGeom prst="rect">
            <a:avLst/>
          </a:prstGeom>
          <a:ln w="0">
            <a:noFill/>
          </a:ln>
        </p:spPr>
      </p:pic>
      <p:pic>
        <p:nvPicPr>
          <p:cNvPr id="164" name="feather_u2d" descr=""/>
          <p:cNvPicPr/>
          <p:nvPr/>
        </p:nvPicPr>
        <p:blipFill>
          <a:blip r:embed="rId4"/>
          <a:stretch/>
        </p:blipFill>
        <p:spPr>
          <a:xfrm>
            <a:off x="6553080" y="4572000"/>
            <a:ext cx="1578240" cy="1577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510552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siz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‘imresize’ in matla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Y = imresize(x,0.5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feather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1578240" cy="1577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449568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feather_rs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789120" cy="78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ot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‘imrotate’ in matla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Y = imrotate(x, 30, 'bilinear'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feath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1578240" cy="1577880"/>
          </a:xfrm>
          <a:prstGeom prst="rect">
            <a:avLst/>
          </a:prstGeom>
          <a:ln w="0">
            <a:noFill/>
          </a:ln>
        </p:spPr>
      </p:pic>
      <p:pic>
        <p:nvPicPr>
          <p:cNvPr id="174" name="feather_r30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75" name="feather_r90" descr=""/>
          <p:cNvPicPr/>
          <p:nvPr/>
        </p:nvPicPr>
        <p:blipFill>
          <a:blip r:embed="rId3"/>
          <a:stretch/>
        </p:blipFill>
        <p:spPr>
          <a:xfrm>
            <a:off x="6629400" y="3809880"/>
            <a:ext cx="1577880" cy="1578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76520" y="5791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5791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e 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5791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e -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ving Skil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impose: change position of the small image and impose it to the background im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 techniques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izing the image while rot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liminate pixels while rot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resizing + rot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895480" y="2743200"/>
          <a:ext cx="337212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337212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3:12:33Z</dcterms:created>
  <dc:creator>Heshan Lin</dc:creator>
  <dc:description/>
  <dc:language>en-US</dc:language>
  <cp:lastModifiedBy>Heshan Lin</cp:lastModifiedBy>
  <dcterms:modified xsi:type="dcterms:W3CDTF">2002-10-16T00:45:44Z</dcterms:modified>
  <cp:revision>12</cp:revision>
  <dc:subject/>
  <dc:title>A Feather’s Rhapsody</dc:title>
</cp:coreProperties>
</file>