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289-EE0C-4D1E-8C93-086DEDF9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4AD-C8F6-4E38-9701-256EA428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3B2-9ABB-426F-9825-43304F71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356-D1E3-4762-B8BF-52DB104A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2E1-46B5-48FD-B842-700C4FF6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C6D-1285-4EA0-B263-306D7615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133-A977-408D-9C8F-DD801BBB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A31-F540-4B7D-A8C2-B77E176C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754-7D58-47E6-BCCF-CE4DCB2B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1D3-140F-4002-9912-9823313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B1B-D4F9-45E7-BED4-FE942DF0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D01-456A-4F12-AB35-A08FB16C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6F1B-2161-4F14-9824-5C307EE9C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4116240"/>
          <a:ext cx="371016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6240"/>
                    <a:ext cx="3710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4876920"/>
          <a:ext cx="368604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876920"/>
                    <a:ext cx="3686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5791320"/>
          <a:ext cx="5867280" cy="48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791320"/>
                    <a:ext cx="58672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5257800" cy="39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895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609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etropolis-Hasting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66680" y="2362320"/>
          <a:ext cx="533412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62320"/>
                    <a:ext cx="53341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066680" y="4114800"/>
          <a:ext cx="510552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14800"/>
                    <a:ext cx="5105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90720" y="1905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walk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6094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etropolis-Hasting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bb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9880" y="2852640"/>
            <a:ext cx="5334120" cy="400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62120" y="2286000"/>
          <a:ext cx="388620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286000"/>
                    <a:ext cx="3886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Gibb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ropos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2203560"/>
          <a:ext cx="533412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3560"/>
                    <a:ext cx="53341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5800" y="3189240"/>
          <a:ext cx="502920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189240"/>
                    <a:ext cx="50292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 Li</cp:lastModifiedBy>
  <dcterms:modified xsi:type="dcterms:W3CDTF">2010-12-01T16:46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