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7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AD7-607D-474F-B38D-1A6B1A1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795-F590-454C-8567-5A1FE5D3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043-1258-47C5-967A-3FD9F304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863-033B-4A33-91B3-937DADB8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3817-9F86-49BB-927B-55D8192E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CA4D-D847-4C70-B8A7-17B41864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8DFD-93EA-427B-ABAE-916BD50D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18F3-18D5-41D4-942C-3CA82CA7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9FC9-1123-4D18-86CA-40E9E58B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EEB3-DDF1-49A7-B552-D32DC5CB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C9F4-4685-4AE6-81ED-5E4E8ADA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3F4-C0B1-4002-8825-B34CC9D6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115C-1C8D-44FC-B416-C580E4A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5D84-CAEB-4644-8289-4154A3F5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6DBC-9DD9-4737-B076-CE3D4997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6BC0-9EA7-4676-8976-1159733D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ABFA-169E-491B-854C-9A6D2331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ECCA-D3C8-4BF8-B610-37BE82D6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1859-D57A-48BE-8186-7EB1837F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83C4-B28A-44AC-AA49-1654F464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EAD4-CBF6-4E1F-B761-53FF1C32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556E-A32E-4D90-B45A-477DDC9D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E7E-46EA-4642-A155-DE481C57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9772-A5FF-4173-A2D9-D4B3B59F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8546-556C-400A-B0A5-2AD6B38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DA75-782E-4CDD-A73E-65DADB48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30AC-BA83-492D-B01C-E2F47FA1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F692-E81E-43EF-9D07-26FB9E8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45BC-72CF-4E36-BE50-689F335F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2257-9DCE-4093-A143-A372CBCC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ACF1-915E-4663-9947-3218E45A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C7C42-9800-45F0-9D06-4D01B826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3607-F903-44A3-97D5-DC9FB51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5AF-8C43-4902-8AEA-89CB92B9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EC84-1FAE-4188-BBD1-64B83CA8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26A4-A486-4B08-BDFA-ED564130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EDC6-754C-4354-A1BE-CD94044B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1843B-A686-4C2E-9CEE-F515BEAC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3DC9-468F-41C5-99CA-C6A0624E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7BA8-E4E0-45F3-9D42-B13765F8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3824-2682-47F4-B494-9DC5B5D3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7DCB-52A8-4BFA-9E26-89C3DCC2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1B3B-E6BE-4E16-BF18-5B880863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9DA40-0027-4DFA-AFFC-E5E4659C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1B8-4ADE-471F-BB2B-DCF2D601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EBAE8-0822-4ED5-8576-881C07C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423C5-514B-4057-A936-E1740EAA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37797-8AA7-446F-B44B-98D84BCF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1C71E-0966-4DC1-9BA9-CB9E4BB6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2EBF-59F9-4EF8-BA53-300F5C4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6A3C-7F0D-438E-8F39-E32E3AF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19AFB-2586-483F-A94C-618D87C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C66D-889C-47F0-AEE7-B094C4A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A6F0-9002-44E8-B831-B5689B8A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BFB2-FE3E-4817-8324-AE807680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662-6629-4993-B53F-7B5D99E4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127E-8A8D-407A-8706-FD795D0E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B95F-FD38-4DB3-8B98-9493000B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C94C-6442-4E1C-9ACB-53F09D72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9B4E8-C883-4978-8AC5-B19D1059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7F62D-C906-472A-9A48-E973EE2C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6C701-2ACA-451E-971C-0EFA5B3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3B0E-5F1D-416F-AAF6-A61B3152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5DB2-E101-4627-83AC-74093BB9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E2ED-7529-4695-96D4-5DF50C42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0CA41-0060-4B08-8BFF-41C68C6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F9C-935F-4EED-8A7F-348D5FF1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E03B9-01A3-433F-A245-8FE75402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BD19F-2004-448A-A455-EA38C995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9A9CA-A87F-4F21-81F6-65159B7E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6524E-5245-457B-B1AF-69295056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A6876-AB85-4FB5-9739-8A2F03F2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A97E-C224-4569-92C7-DC79D9AD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CE89D-879E-492A-A4BA-4741C167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6C04-951F-41FD-87BA-1E5D251F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2694-E716-4819-B6FE-28AADEB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9CA25-30BD-430B-85DE-7805FCD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444-48E3-4364-8E27-366E94C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02439-414F-409C-AAFA-277CC1E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68ACE-51FA-4042-8D5C-6F6A3896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0DB1E-9F7B-4FCB-8C07-C70B94DE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1BE53-2718-46A3-A5BC-614FDA69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E5852-A117-4E57-A456-3AD92E37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06674-3B7B-4C54-8BEE-02C90A6F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C609F-E388-4902-A28A-28021AFE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EB622-C44F-4F64-9876-E2566781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783F-168C-4450-A1BB-47A5F3F2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46782-C117-409B-ACF1-A4AFBE8A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77A-DF99-4A5C-9292-91DE5A22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91D77-ACCB-474B-B259-64A04F76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E8E6E-0125-43E4-A20A-1616020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4BEC3-56C3-4B84-B32E-0D0D7CB1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BCAC1-41B6-4EF9-88EE-AF12B80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FB749-9E04-4207-ACAB-B641E480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0762-E2B9-4190-BD20-8E2E0531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3FD65-C530-4A0F-9F4C-95FB486D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E018-58C1-451A-B00A-3BDB30F176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F71A-77C3-436A-993C-031E273E82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A827-024C-4B49-B319-9BE29B573E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C81-C1C1-4BB9-A0EF-6E356B5BF6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D332-0E48-4D05-BFDE-D764EFBAEB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97B-D508-4AC5-AF20-AD7F370A06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C99F-203A-4B5D-8BA5-FF84CD7E85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A646-9286-4626-93AB-6F9C23438C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Name: Po-Shen Ku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structor: Dr. Longin Jan Lateck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primary purpose of LDA is to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separate samples of distinct groups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by transforming then to a space which </a:t>
            </a: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maximises their between-class separability while minimising their within-class variabil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LdaOverlapPoints.jpg"/>
          <p:cNvPicPr/>
          <p:nvPr/>
        </p:nvPicPr>
        <p:blipFill>
          <a:blip r:embed="rId2"/>
          <a:stretch/>
        </p:blipFill>
        <p:spPr>
          <a:xfrm>
            <a:off x="2743200" y="3657600"/>
            <a:ext cx="401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et the between-class scatter matrix </a:t>
            </a:r>
            <a:r>
              <a:rPr b="0" i="1" lang="en-GB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i="1" lang="en-GB" sz="2700" spc="-1" strike="noStrike" baseline="-25000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be defined 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nd the within-class scatter matrix </a:t>
            </a:r>
            <a:r>
              <a:rPr b="0" i="1" lang="en-GB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i="1" lang="en-GB" sz="2700" spc="-1" strike="noStrike" baseline="-25000">
                <a:solidFill>
                  <a:srgbClr val="000000"/>
                </a:solidFill>
                <a:latin typeface="Lucida Sans Unicode"/>
              </a:rPr>
              <a:t>w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be defined 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3951360" cy="1079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3"/>
          <a:stretch/>
        </p:blipFill>
        <p:spPr>
          <a:xfrm>
            <a:off x="1523880" y="4800600"/>
            <a:ext cx="675828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Oval 5"/>
          <p:cNvSpPr/>
          <p:nvPr/>
        </p:nvSpPr>
        <p:spPr>
          <a:xfrm>
            <a:off x="2514600" y="4952880"/>
            <a:ext cx="2438280" cy="685800"/>
          </a:xfrm>
          <a:prstGeom prst="ellipse">
            <a:avLst/>
          </a:prstGeom>
          <a:solidFill>
            <a:srgbClr val="ffc000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t has been shown that </a:t>
            </a:r>
            <a:r>
              <a:rPr b="0" i="1" lang="en-GB" sz="2700" spc="-1" strike="noStrike">
                <a:solidFill>
                  <a:srgbClr val="000000"/>
                </a:solidFill>
                <a:latin typeface="Lucida Sans Unicode"/>
              </a:rPr>
              <a:t>P</a:t>
            </a:r>
            <a:r>
              <a:rPr b="0" i="1" lang="en-GB" sz="2700" spc="-1" strike="noStrike" baseline="-25000">
                <a:solidFill>
                  <a:srgbClr val="000000"/>
                </a:solidFill>
                <a:latin typeface="Lucida Sans Unicode"/>
              </a:rPr>
              <a:t>lda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is in fact the solution of the following eigensystem probl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2357280" cy="506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2666880" y="3886200"/>
            <a:ext cx="32752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5"/>
          <p:cNvSpPr/>
          <p:nvPr/>
        </p:nvSpPr>
        <p:spPr>
          <a:xfrm>
            <a:off x="3809880" y="3048120"/>
            <a:ext cx="1676520" cy="685800"/>
          </a:xfrm>
          <a:prstGeom prst="ellipse">
            <a:avLst/>
          </a:prstGeom>
          <a:solidFill>
            <a:srgbClr val="ffc000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Fisher’s criterion is maximised when the projection matrix </a:t>
            </a:r>
            <a:r>
              <a:rPr b="0" i="1" lang="en-GB" sz="2700" spc="-1" strike="noStrike">
                <a:solidFill>
                  <a:srgbClr val="000000"/>
                </a:solidFill>
                <a:latin typeface="Lucida Sans Unicode"/>
              </a:rPr>
              <a:t>P</a:t>
            </a:r>
            <a:r>
              <a:rPr b="0" i="1" lang="en-GB" sz="2700" spc="-1" strike="noStrike" baseline="-25000">
                <a:solidFill>
                  <a:srgbClr val="000000"/>
                </a:solidFill>
                <a:latin typeface="Lucida Sans Unicode"/>
              </a:rPr>
              <a:t>lda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is composed of the </a:t>
            </a:r>
            <a:r>
              <a:rPr b="0" lang="en-GB" sz="2700" spc="-1" strike="noStrike">
                <a:solidFill>
                  <a:srgbClr val="da1f28"/>
                </a:solidFill>
                <a:latin typeface="Lucida Sans Unicode"/>
              </a:rPr>
              <a:t>eigenvectors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at most (</a:t>
            </a:r>
            <a:r>
              <a:rPr b="0" i="1" lang="en-GB" sz="27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-1) nonzero corresponding </a:t>
            </a:r>
            <a:r>
              <a:rPr b="0" lang="en-GB" sz="2700" spc="-1" strike="noStrike">
                <a:solidFill>
                  <a:srgbClr val="da1f28"/>
                </a:solidFill>
                <a:latin typeface="Lucida Sans Unicode"/>
              </a:rPr>
              <a:t>eigenvalues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3886200" y="2895480"/>
            <a:ext cx="143208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LDA is an axis proj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nce the projection is found all the data points can be transformed to the new axis system along with the class means and covari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Object 4"/>
          <p:cNvGraphicFramePr/>
          <p:nvPr/>
        </p:nvGraphicFramePr>
        <p:xfrm>
          <a:off x="304920" y="2009880"/>
          <a:ext cx="853272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09880"/>
                    <a:ext cx="85327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2" name="Titl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05:38Z</dcterms:created>
  <dc:creator>Po-Shen Kuo</dc:creator>
  <dc:description/>
  <dc:language>en-US</dc:language>
  <cp:lastModifiedBy>Po-Shen Kuo</cp:lastModifiedBy>
  <dcterms:modified xsi:type="dcterms:W3CDTF">2010-11-03T23:57:47Z</dcterms:modified>
  <cp:revision>8</cp:revision>
  <dc:subject/>
  <dc:title>Slide 1</dc:title>
</cp:coreProperties>
</file>