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F1DA-2738-4477-A4BB-0E048063D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0CF7-FE45-4B4B-888B-416A7F37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2378-CB22-40DD-B03E-1CA7E3304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BB28-2A9B-4055-A9B1-E54FD2110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5530-93FD-4F85-9A83-420B39BE0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D066-4096-422F-9A25-1B40068F0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D6A6-D799-4AA3-9A62-FA5C75037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C722-37C0-47F0-92C9-A693BA5A1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B5D1-4C7C-4ADE-9AA3-888CE8CC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887C-D5A0-4989-AECE-280B3955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30A6-75CE-4202-B259-FEBB2D64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F87D-81B5-411B-A7A1-35109242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BB855-D288-430F-B176-22B4748618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0" y="4116240"/>
          <a:ext cx="3710160" cy="47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116240"/>
                    <a:ext cx="371016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0" y="4876920"/>
          <a:ext cx="3686040" cy="51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876920"/>
                    <a:ext cx="368604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0" y="5791320"/>
          <a:ext cx="5867280" cy="488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5791320"/>
                    <a:ext cx="586728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3886200" y="1600200"/>
            <a:ext cx="5257800" cy="397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289548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get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60948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Metropolis-Hastings samp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066680" y="2362320"/>
          <a:ext cx="5334120" cy="56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362320"/>
                    <a:ext cx="5334120" cy="56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1066680" y="4114800"/>
          <a:ext cx="5105520" cy="56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4114800"/>
                    <a:ext cx="5105520" cy="5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90720" y="19051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walk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90720" y="35812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05120" y="6094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Metropolis-Hastings samp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ibbs samp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get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809880" y="2852640"/>
            <a:ext cx="5334120" cy="400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762120" y="2286000"/>
          <a:ext cx="3886200" cy="48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2286000"/>
                    <a:ext cx="3886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Gibbs samp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roposal prob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85800" y="2203560"/>
          <a:ext cx="5334120" cy="82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3560"/>
                    <a:ext cx="5334120" cy="82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685800" y="3189240"/>
          <a:ext cx="5029200" cy="78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3189240"/>
                    <a:ext cx="502920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n Li</cp:lastModifiedBy>
  <dcterms:modified xsi:type="dcterms:W3CDTF">2010-12-01T16:46:4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